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4367160"/>
            <a:ext cx="9131400" cy="2478240"/>
            <a:chOff x="0" y="4367160"/>
            <a:chExt cx="9131400" cy="2478240"/>
          </a:xfrm>
        </p:grpSpPr>
        <p:sp>
          <p:nvSpPr>
            <p:cNvPr id="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077240" y="4367160"/>
              <a:ext cx="1887480" cy="2262600"/>
              <a:chOff x="7077240" y="4367160"/>
              <a:chExt cx="1887480" cy="2262600"/>
            </a:xfrm>
          </p:grpSpPr>
          <p:grpSp>
            <p:nvGrpSpPr>
              <p:cNvPr id="4" name=""/>
              <p:cNvGrpSpPr/>
              <p:nvPr/>
            </p:nvGrpSpPr>
            <p:grpSpPr>
              <a:xfrm>
                <a:off x="7324560" y="4367160"/>
                <a:ext cx="1640160" cy="2262600"/>
                <a:chOff x="7324560" y="4367160"/>
                <a:chExt cx="1640160" cy="22626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324560" y="4429080"/>
                  <a:ext cx="1640160" cy="2019600"/>
                </a:xfrm>
                <a:custGeom>
                  <a:avLst/>
                  <a:gdLst/>
                  <a:ahLst/>
                  <a:rect l="0" t="0" r="r" b="b"/>
                  <a:pathLst>
                    <a:path w="4556" h="5610">
                      <a:moveTo>
                        <a:pt x="2571" y="0"/>
                      </a:moveTo>
                      <a:lnTo>
                        <a:pt x="2853" y="104"/>
                      </a:lnTo>
                      <a:lnTo>
                        <a:pt x="3122" y="247"/>
                      </a:lnTo>
                      <a:lnTo>
                        <a:pt x="3375" y="409"/>
                      </a:lnTo>
                      <a:lnTo>
                        <a:pt x="3609" y="592"/>
                      </a:lnTo>
                      <a:lnTo>
                        <a:pt x="3821" y="811"/>
                      </a:lnTo>
                      <a:lnTo>
                        <a:pt x="4005" y="1046"/>
                      </a:lnTo>
                      <a:lnTo>
                        <a:pt x="4166" y="1300"/>
                      </a:lnTo>
                      <a:lnTo>
                        <a:pt x="4309" y="1560"/>
                      </a:lnTo>
                      <a:lnTo>
                        <a:pt x="4413" y="1842"/>
                      </a:lnTo>
                      <a:lnTo>
                        <a:pt x="4492" y="2133"/>
                      </a:lnTo>
                      <a:lnTo>
                        <a:pt x="4543" y="2428"/>
                      </a:lnTo>
                      <a:lnTo>
                        <a:pt x="4556" y="2733"/>
                      </a:lnTo>
                      <a:lnTo>
                        <a:pt x="4543" y="3038"/>
                      </a:lnTo>
                      <a:lnTo>
                        <a:pt x="4492" y="3336"/>
                      </a:lnTo>
                      <a:lnTo>
                        <a:pt x="4413" y="3625"/>
                      </a:lnTo>
                      <a:lnTo>
                        <a:pt x="4309" y="3901"/>
                      </a:lnTo>
                      <a:lnTo>
                        <a:pt x="4166" y="4167"/>
                      </a:lnTo>
                      <a:lnTo>
                        <a:pt x="4005" y="4424"/>
                      </a:lnTo>
                      <a:lnTo>
                        <a:pt x="3821" y="4655"/>
                      </a:lnTo>
                      <a:lnTo>
                        <a:pt x="3609" y="4874"/>
                      </a:lnTo>
                      <a:lnTo>
                        <a:pt x="3375" y="5064"/>
                      </a:lnTo>
                      <a:lnTo>
                        <a:pt x="3122" y="5220"/>
                      </a:lnTo>
                      <a:lnTo>
                        <a:pt x="2853" y="5362"/>
                      </a:lnTo>
                      <a:lnTo>
                        <a:pt x="2571" y="5467"/>
                      </a:lnTo>
                      <a:lnTo>
                        <a:pt x="2283" y="5546"/>
                      </a:lnTo>
                      <a:lnTo>
                        <a:pt x="1984" y="5597"/>
                      </a:lnTo>
                      <a:lnTo>
                        <a:pt x="1687" y="5610"/>
                      </a:lnTo>
                      <a:lnTo>
                        <a:pt x="1383" y="5597"/>
                      </a:lnTo>
                      <a:lnTo>
                        <a:pt x="1088" y="5546"/>
                      </a:lnTo>
                      <a:lnTo>
                        <a:pt x="797" y="5467"/>
                      </a:lnTo>
                      <a:lnTo>
                        <a:pt x="522" y="5362"/>
                      </a:lnTo>
                      <a:lnTo>
                        <a:pt x="253" y="5220"/>
                      </a:lnTo>
                      <a:lnTo>
                        <a:pt x="0" y="5064"/>
                      </a:lnTo>
                      <a:lnTo>
                        <a:pt x="161" y="4833"/>
                      </a:lnTo>
                      <a:lnTo>
                        <a:pt x="395" y="4982"/>
                      </a:lnTo>
                      <a:lnTo>
                        <a:pt x="636" y="5102"/>
                      </a:lnTo>
                      <a:lnTo>
                        <a:pt x="889" y="5201"/>
                      </a:lnTo>
                      <a:lnTo>
                        <a:pt x="1152" y="5270"/>
                      </a:lnTo>
                      <a:lnTo>
                        <a:pt x="1411" y="5312"/>
                      </a:lnTo>
                      <a:lnTo>
                        <a:pt x="1687" y="5327"/>
                      </a:lnTo>
                      <a:lnTo>
                        <a:pt x="1956" y="5312"/>
                      </a:lnTo>
                      <a:lnTo>
                        <a:pt x="2225" y="5270"/>
                      </a:lnTo>
                      <a:lnTo>
                        <a:pt x="2485" y="5201"/>
                      </a:lnTo>
                      <a:lnTo>
                        <a:pt x="2742" y="5102"/>
                      </a:lnTo>
                      <a:lnTo>
                        <a:pt x="2979" y="4982"/>
                      </a:lnTo>
                      <a:lnTo>
                        <a:pt x="3207" y="4833"/>
                      </a:lnTo>
                      <a:lnTo>
                        <a:pt x="3419" y="4662"/>
                      </a:lnTo>
                      <a:lnTo>
                        <a:pt x="3609" y="4471"/>
                      </a:lnTo>
                      <a:lnTo>
                        <a:pt x="3780" y="4259"/>
                      </a:lnTo>
                      <a:lnTo>
                        <a:pt x="3926" y="4027"/>
                      </a:lnTo>
                      <a:lnTo>
                        <a:pt x="4056" y="3786"/>
                      </a:lnTo>
                      <a:lnTo>
                        <a:pt x="4154" y="3539"/>
                      </a:lnTo>
                      <a:lnTo>
                        <a:pt x="4217" y="3273"/>
                      </a:lnTo>
                      <a:lnTo>
                        <a:pt x="4258" y="3003"/>
                      </a:lnTo>
                      <a:lnTo>
                        <a:pt x="4274" y="2733"/>
                      </a:lnTo>
                      <a:lnTo>
                        <a:pt x="4258" y="2457"/>
                      </a:lnTo>
                      <a:lnTo>
                        <a:pt x="4217" y="2191"/>
                      </a:lnTo>
                      <a:lnTo>
                        <a:pt x="4154" y="1927"/>
                      </a:lnTo>
                      <a:lnTo>
                        <a:pt x="4056" y="1680"/>
                      </a:lnTo>
                      <a:lnTo>
                        <a:pt x="3926" y="1433"/>
                      </a:lnTo>
                      <a:lnTo>
                        <a:pt x="3780" y="1208"/>
                      </a:lnTo>
                      <a:lnTo>
                        <a:pt x="3609" y="995"/>
                      </a:lnTo>
                      <a:lnTo>
                        <a:pt x="3419" y="805"/>
                      </a:lnTo>
                      <a:lnTo>
                        <a:pt x="3207" y="637"/>
                      </a:lnTo>
                      <a:lnTo>
                        <a:pt x="2979" y="488"/>
                      </a:lnTo>
                      <a:lnTo>
                        <a:pt x="2742" y="361"/>
                      </a:lnTo>
                      <a:lnTo>
                        <a:pt x="2485" y="269"/>
                      </a:lnTo>
                      <a:lnTo>
                        <a:pt x="2495" y="247"/>
                      </a:lnTo>
                      <a:lnTo>
                        <a:pt x="257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7364520" y="6132600"/>
                  <a:ext cx="163440" cy="295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271000" y="4562640"/>
                  <a:ext cx="56880" cy="1126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5080" bIns="55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366040" y="4367160"/>
                  <a:ext cx="57240" cy="1126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5080" bIns="55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45240" y="6456240"/>
                  <a:ext cx="957600" cy="173520"/>
                </a:xfrm>
                <a:custGeom>
                  <a:avLst/>
                  <a:gdLst/>
                  <a:ahLst/>
                  <a:rect l="0" t="0" r="r" b="b"/>
                  <a:pathLst>
                    <a:path w="2660" h="482">
                      <a:moveTo>
                        <a:pt x="9" y="310"/>
                      </a:moveTo>
                      <a:lnTo>
                        <a:pt x="63" y="253"/>
                      </a:lnTo>
                      <a:lnTo>
                        <a:pt x="139" y="206"/>
                      </a:lnTo>
                      <a:lnTo>
                        <a:pt x="281" y="136"/>
                      </a:lnTo>
                      <a:lnTo>
                        <a:pt x="443" y="94"/>
                      </a:lnTo>
                      <a:lnTo>
                        <a:pt x="595" y="60"/>
                      </a:lnTo>
                      <a:lnTo>
                        <a:pt x="800" y="28"/>
                      </a:lnTo>
                      <a:lnTo>
                        <a:pt x="993" y="9"/>
                      </a:lnTo>
                      <a:lnTo>
                        <a:pt x="1221" y="0"/>
                      </a:lnTo>
                      <a:lnTo>
                        <a:pt x="1504" y="3"/>
                      </a:lnTo>
                      <a:lnTo>
                        <a:pt x="1795" y="18"/>
                      </a:lnTo>
                      <a:lnTo>
                        <a:pt x="2001" y="44"/>
                      </a:lnTo>
                      <a:lnTo>
                        <a:pt x="2216" y="85"/>
                      </a:lnTo>
                      <a:lnTo>
                        <a:pt x="2422" y="149"/>
                      </a:lnTo>
                      <a:lnTo>
                        <a:pt x="2530" y="209"/>
                      </a:lnTo>
                      <a:lnTo>
                        <a:pt x="2596" y="260"/>
                      </a:lnTo>
                      <a:lnTo>
                        <a:pt x="2660" y="342"/>
                      </a:lnTo>
                      <a:lnTo>
                        <a:pt x="2552" y="387"/>
                      </a:lnTo>
                      <a:lnTo>
                        <a:pt x="2368" y="422"/>
                      </a:lnTo>
                      <a:lnTo>
                        <a:pt x="2140" y="447"/>
                      </a:lnTo>
                      <a:lnTo>
                        <a:pt x="1925" y="470"/>
                      </a:lnTo>
                      <a:lnTo>
                        <a:pt x="1666" y="479"/>
                      </a:lnTo>
                      <a:lnTo>
                        <a:pt x="1384" y="482"/>
                      </a:lnTo>
                      <a:lnTo>
                        <a:pt x="1114" y="482"/>
                      </a:lnTo>
                      <a:lnTo>
                        <a:pt x="832" y="479"/>
                      </a:lnTo>
                      <a:lnTo>
                        <a:pt x="519" y="454"/>
                      </a:lnTo>
                      <a:lnTo>
                        <a:pt x="269" y="428"/>
                      </a:lnTo>
                      <a:lnTo>
                        <a:pt x="63" y="381"/>
                      </a:lnTo>
                      <a:lnTo>
                        <a:pt x="0" y="345"/>
                      </a:lnTo>
                      <a:lnTo>
                        <a:pt x="9" y="3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7077240" y="4570560"/>
                <a:ext cx="1704960" cy="17035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" name=""/>
              <p:cNvGrpSpPr/>
              <p:nvPr/>
            </p:nvGrpSpPr>
            <p:grpSpPr>
              <a:xfrm>
                <a:off x="7077240" y="4748040"/>
                <a:ext cx="1584720" cy="1264320"/>
                <a:chOff x="7077240" y="4748040"/>
                <a:chExt cx="1584720" cy="126432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7300800" y="521172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327800" y="5246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419960" y="5199120"/>
                  <a:ext cx="57600" cy="54360"/>
                </a:xfrm>
                <a:custGeom>
                  <a:avLst/>
                  <a:gdLst/>
                  <a:ahLst/>
                  <a:rect l="0" t="0" r="r" b="b"/>
                  <a:pathLst>
                    <a:path w="160" h="151">
                      <a:moveTo>
                        <a:pt x="160" y="0"/>
                      </a:moveTo>
                      <a:lnTo>
                        <a:pt x="99" y="0"/>
                      </a:lnTo>
                      <a:lnTo>
                        <a:pt x="64" y="42"/>
                      </a:lnTo>
                      <a:lnTo>
                        <a:pt x="42" y="42"/>
                      </a:lnTo>
                      <a:lnTo>
                        <a:pt x="22" y="61"/>
                      </a:lnTo>
                      <a:lnTo>
                        <a:pt x="0" y="61"/>
                      </a:lnTo>
                      <a:lnTo>
                        <a:pt x="0" y="112"/>
                      </a:lnTo>
                      <a:lnTo>
                        <a:pt x="38" y="151"/>
                      </a:lnTo>
                      <a:lnTo>
                        <a:pt x="132" y="151"/>
                      </a:lnTo>
                      <a:lnTo>
                        <a:pt x="160" y="112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077240" y="5243400"/>
                  <a:ext cx="513000" cy="668520"/>
                </a:xfrm>
                <a:custGeom>
                  <a:avLst/>
                  <a:gdLst/>
                  <a:ahLst/>
                  <a:rect l="0" t="0" r="r" b="b"/>
                  <a:pathLst>
                    <a:path w="1425" h="1857">
                      <a:moveTo>
                        <a:pt x="338" y="0"/>
                      </a:moveTo>
                      <a:lnTo>
                        <a:pt x="313" y="50"/>
                      </a:lnTo>
                      <a:lnTo>
                        <a:pt x="202" y="148"/>
                      </a:lnTo>
                      <a:lnTo>
                        <a:pt x="177" y="237"/>
                      </a:lnTo>
                      <a:lnTo>
                        <a:pt x="94" y="300"/>
                      </a:lnTo>
                      <a:lnTo>
                        <a:pt x="37" y="427"/>
                      </a:lnTo>
                      <a:lnTo>
                        <a:pt x="37" y="503"/>
                      </a:lnTo>
                      <a:lnTo>
                        <a:pt x="0" y="636"/>
                      </a:lnTo>
                      <a:lnTo>
                        <a:pt x="50" y="693"/>
                      </a:lnTo>
                      <a:lnTo>
                        <a:pt x="177" y="861"/>
                      </a:lnTo>
                      <a:lnTo>
                        <a:pt x="215" y="839"/>
                      </a:lnTo>
                      <a:lnTo>
                        <a:pt x="439" y="839"/>
                      </a:lnTo>
                      <a:lnTo>
                        <a:pt x="544" y="880"/>
                      </a:lnTo>
                      <a:lnTo>
                        <a:pt x="534" y="1011"/>
                      </a:lnTo>
                      <a:lnTo>
                        <a:pt x="610" y="1185"/>
                      </a:lnTo>
                      <a:lnTo>
                        <a:pt x="604" y="1233"/>
                      </a:lnTo>
                      <a:lnTo>
                        <a:pt x="636" y="1287"/>
                      </a:lnTo>
                      <a:lnTo>
                        <a:pt x="588" y="1410"/>
                      </a:lnTo>
                      <a:lnTo>
                        <a:pt x="645" y="1566"/>
                      </a:lnTo>
                      <a:lnTo>
                        <a:pt x="677" y="1686"/>
                      </a:lnTo>
                      <a:lnTo>
                        <a:pt x="716" y="1762"/>
                      </a:lnTo>
                      <a:lnTo>
                        <a:pt x="757" y="1857"/>
                      </a:lnTo>
                      <a:lnTo>
                        <a:pt x="833" y="1844"/>
                      </a:lnTo>
                      <a:lnTo>
                        <a:pt x="956" y="1775"/>
                      </a:lnTo>
                      <a:lnTo>
                        <a:pt x="1013" y="1689"/>
                      </a:lnTo>
                      <a:lnTo>
                        <a:pt x="1010" y="1632"/>
                      </a:lnTo>
                      <a:lnTo>
                        <a:pt x="1083" y="1585"/>
                      </a:lnTo>
                      <a:lnTo>
                        <a:pt x="1070" y="1502"/>
                      </a:lnTo>
                      <a:lnTo>
                        <a:pt x="1181" y="1369"/>
                      </a:lnTo>
                      <a:lnTo>
                        <a:pt x="1197" y="1261"/>
                      </a:lnTo>
                      <a:lnTo>
                        <a:pt x="1168" y="1223"/>
                      </a:lnTo>
                      <a:lnTo>
                        <a:pt x="1181" y="1179"/>
                      </a:lnTo>
                      <a:lnTo>
                        <a:pt x="1156" y="1141"/>
                      </a:lnTo>
                      <a:lnTo>
                        <a:pt x="1238" y="1036"/>
                      </a:lnTo>
                      <a:lnTo>
                        <a:pt x="1238" y="983"/>
                      </a:lnTo>
                      <a:lnTo>
                        <a:pt x="1352" y="893"/>
                      </a:lnTo>
                      <a:lnTo>
                        <a:pt x="1425" y="655"/>
                      </a:lnTo>
                      <a:lnTo>
                        <a:pt x="1320" y="715"/>
                      </a:lnTo>
                      <a:lnTo>
                        <a:pt x="1229" y="690"/>
                      </a:lnTo>
                      <a:lnTo>
                        <a:pt x="1241" y="633"/>
                      </a:lnTo>
                      <a:lnTo>
                        <a:pt x="1149" y="570"/>
                      </a:lnTo>
                      <a:lnTo>
                        <a:pt x="1105" y="418"/>
                      </a:lnTo>
                      <a:lnTo>
                        <a:pt x="1017" y="294"/>
                      </a:lnTo>
                      <a:lnTo>
                        <a:pt x="1017" y="209"/>
                      </a:lnTo>
                      <a:lnTo>
                        <a:pt x="969" y="205"/>
                      </a:lnTo>
                      <a:lnTo>
                        <a:pt x="937" y="218"/>
                      </a:lnTo>
                      <a:lnTo>
                        <a:pt x="804" y="171"/>
                      </a:lnTo>
                      <a:lnTo>
                        <a:pt x="770" y="205"/>
                      </a:lnTo>
                      <a:lnTo>
                        <a:pt x="741" y="247"/>
                      </a:lnTo>
                      <a:lnTo>
                        <a:pt x="667" y="167"/>
                      </a:lnTo>
                      <a:lnTo>
                        <a:pt x="598" y="148"/>
                      </a:lnTo>
                      <a:lnTo>
                        <a:pt x="591" y="47"/>
                      </a:lnTo>
                      <a:lnTo>
                        <a:pt x="490" y="63"/>
                      </a:lnTo>
                      <a:lnTo>
                        <a:pt x="427" y="41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263080" y="5410080"/>
                  <a:ext cx="25920" cy="32040"/>
                </a:xfrm>
                <a:custGeom>
                  <a:avLst/>
                  <a:gdLst/>
                  <a:ahLst/>
                  <a:rect l="0" t="0" r="r" b="b"/>
                  <a:pathLst>
                    <a:path w="72" h="89">
                      <a:moveTo>
                        <a:pt x="31" y="0"/>
                      </a:moveTo>
                      <a:lnTo>
                        <a:pt x="40" y="26"/>
                      </a:lnTo>
                      <a:lnTo>
                        <a:pt x="31" y="46"/>
                      </a:lnTo>
                      <a:lnTo>
                        <a:pt x="31" y="63"/>
                      </a:lnTo>
                      <a:lnTo>
                        <a:pt x="72" y="76"/>
                      </a:lnTo>
                      <a:lnTo>
                        <a:pt x="72" y="89"/>
                      </a:lnTo>
                      <a:lnTo>
                        <a:pt x="40" y="76"/>
                      </a:lnTo>
                      <a:lnTo>
                        <a:pt x="13" y="89"/>
                      </a:lnTo>
                      <a:lnTo>
                        <a:pt x="0" y="76"/>
                      </a:lnTo>
                      <a:lnTo>
                        <a:pt x="13" y="63"/>
                      </a:lnTo>
                      <a:lnTo>
                        <a:pt x="0" y="46"/>
                      </a:lnTo>
                      <a:lnTo>
                        <a:pt x="13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166240" y="5549760"/>
                  <a:ext cx="76680" cy="109800"/>
                </a:xfrm>
                <a:custGeom>
                  <a:avLst/>
                  <a:gdLst/>
                  <a:ahLst/>
                  <a:rect l="0" t="0" r="r" b="b"/>
                  <a:pathLst>
                    <a:path w="213" h="305">
                      <a:moveTo>
                        <a:pt x="0" y="153"/>
                      </a:moveTo>
                      <a:lnTo>
                        <a:pt x="76" y="153"/>
                      </a:lnTo>
                      <a:lnTo>
                        <a:pt x="166" y="0"/>
                      </a:lnTo>
                      <a:lnTo>
                        <a:pt x="213" y="88"/>
                      </a:lnTo>
                      <a:lnTo>
                        <a:pt x="175" y="305"/>
                      </a:lnTo>
                      <a:lnTo>
                        <a:pt x="15" y="254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319960" y="5592600"/>
                  <a:ext cx="132120" cy="105120"/>
                </a:xfrm>
                <a:custGeom>
                  <a:avLst/>
                  <a:gdLst/>
                  <a:ahLst/>
                  <a:rect l="0" t="0" r="r" b="b"/>
                  <a:pathLst>
                    <a:path w="367" h="292">
                      <a:moveTo>
                        <a:pt x="22" y="68"/>
                      </a:moveTo>
                      <a:lnTo>
                        <a:pt x="0" y="0"/>
                      </a:lnTo>
                      <a:lnTo>
                        <a:pt x="123" y="28"/>
                      </a:lnTo>
                      <a:lnTo>
                        <a:pt x="300" y="100"/>
                      </a:lnTo>
                      <a:lnTo>
                        <a:pt x="300" y="154"/>
                      </a:lnTo>
                      <a:lnTo>
                        <a:pt x="367" y="292"/>
                      </a:lnTo>
                      <a:lnTo>
                        <a:pt x="231" y="160"/>
                      </a:lnTo>
                      <a:lnTo>
                        <a:pt x="138" y="16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572680" y="581040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2" y="0"/>
                      </a:moveTo>
                      <a:lnTo>
                        <a:pt x="248" y="96"/>
                      </a:lnTo>
                      <a:lnTo>
                        <a:pt x="50" y="319"/>
                      </a:lnTo>
                      <a:lnTo>
                        <a:pt x="0" y="268"/>
                      </a:lnTo>
                      <a:lnTo>
                        <a:pt x="143" y="12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236000" y="5027760"/>
                  <a:ext cx="44640" cy="74880"/>
                </a:xfrm>
                <a:custGeom>
                  <a:avLst/>
                  <a:gdLst/>
                  <a:ahLst/>
                  <a:rect l="0" t="0" r="r" b="b"/>
                  <a:pathLst>
                    <a:path w="124" h="208">
                      <a:moveTo>
                        <a:pt x="124" y="163"/>
                      </a:moveTo>
                      <a:lnTo>
                        <a:pt x="91" y="138"/>
                      </a:lnTo>
                      <a:lnTo>
                        <a:pt x="91" y="44"/>
                      </a:lnTo>
                      <a:lnTo>
                        <a:pt x="108" y="25"/>
                      </a:lnTo>
                      <a:lnTo>
                        <a:pt x="78" y="25"/>
                      </a:lnTo>
                      <a:lnTo>
                        <a:pt x="95" y="0"/>
                      </a:lnTo>
                      <a:lnTo>
                        <a:pt x="72" y="0"/>
                      </a:lnTo>
                      <a:lnTo>
                        <a:pt x="45" y="28"/>
                      </a:lnTo>
                      <a:lnTo>
                        <a:pt x="45" y="86"/>
                      </a:lnTo>
                      <a:lnTo>
                        <a:pt x="58" y="98"/>
                      </a:lnTo>
                      <a:lnTo>
                        <a:pt x="58" y="125"/>
                      </a:lnTo>
                      <a:lnTo>
                        <a:pt x="51" y="125"/>
                      </a:lnTo>
                      <a:lnTo>
                        <a:pt x="29" y="147"/>
                      </a:lnTo>
                      <a:lnTo>
                        <a:pt x="29" y="169"/>
                      </a:lnTo>
                      <a:lnTo>
                        <a:pt x="0" y="208"/>
                      </a:lnTo>
                      <a:lnTo>
                        <a:pt x="95" y="208"/>
                      </a:lnTo>
                      <a:lnTo>
                        <a:pt x="124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221600" y="5052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1" y="25"/>
                      </a:moveTo>
                      <a:lnTo>
                        <a:pt x="72" y="25"/>
                      </a:lnTo>
                      <a:lnTo>
                        <a:pt x="72" y="0"/>
                      </a:lnTo>
                      <a:lnTo>
                        <a:pt x="46" y="0"/>
                      </a:lnTo>
                      <a:lnTo>
                        <a:pt x="0" y="47"/>
                      </a:lnTo>
                      <a:lnTo>
                        <a:pt x="0" y="72"/>
                      </a:lnTo>
                      <a:lnTo>
                        <a:pt x="43" y="72"/>
                      </a:lnTo>
                      <a:lnTo>
                        <a:pt x="61" y="53"/>
                      </a:lnTo>
                      <a:lnTo>
                        <a:pt x="61" y="2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186680" y="5008680"/>
                  <a:ext cx="290880" cy="244800"/>
                </a:xfrm>
                <a:custGeom>
                  <a:avLst/>
                  <a:gdLst/>
                  <a:ahLst/>
                  <a:rect l="0" t="0" r="r" b="b"/>
                  <a:pathLst>
                    <a:path w="808" h="680">
                      <a:moveTo>
                        <a:pt x="532" y="0"/>
                      </a:moveTo>
                      <a:lnTo>
                        <a:pt x="532" y="47"/>
                      </a:lnTo>
                      <a:lnTo>
                        <a:pt x="548" y="63"/>
                      </a:lnTo>
                      <a:lnTo>
                        <a:pt x="638" y="63"/>
                      </a:lnTo>
                      <a:lnTo>
                        <a:pt x="638" y="88"/>
                      </a:lnTo>
                      <a:lnTo>
                        <a:pt x="573" y="88"/>
                      </a:lnTo>
                      <a:lnTo>
                        <a:pt x="573" y="164"/>
                      </a:lnTo>
                      <a:lnTo>
                        <a:pt x="545" y="129"/>
                      </a:lnTo>
                      <a:lnTo>
                        <a:pt x="545" y="176"/>
                      </a:lnTo>
                      <a:lnTo>
                        <a:pt x="507" y="221"/>
                      </a:lnTo>
                      <a:lnTo>
                        <a:pt x="482" y="195"/>
                      </a:lnTo>
                      <a:lnTo>
                        <a:pt x="444" y="227"/>
                      </a:lnTo>
                      <a:lnTo>
                        <a:pt x="437" y="217"/>
                      </a:lnTo>
                      <a:lnTo>
                        <a:pt x="390" y="217"/>
                      </a:lnTo>
                      <a:lnTo>
                        <a:pt x="415" y="186"/>
                      </a:lnTo>
                      <a:lnTo>
                        <a:pt x="415" y="173"/>
                      </a:lnTo>
                      <a:lnTo>
                        <a:pt x="393" y="151"/>
                      </a:lnTo>
                      <a:lnTo>
                        <a:pt x="393" y="116"/>
                      </a:lnTo>
                      <a:lnTo>
                        <a:pt x="361" y="151"/>
                      </a:lnTo>
                      <a:lnTo>
                        <a:pt x="361" y="217"/>
                      </a:lnTo>
                      <a:lnTo>
                        <a:pt x="323" y="217"/>
                      </a:lnTo>
                      <a:lnTo>
                        <a:pt x="276" y="265"/>
                      </a:lnTo>
                      <a:lnTo>
                        <a:pt x="257" y="265"/>
                      </a:lnTo>
                      <a:lnTo>
                        <a:pt x="232" y="296"/>
                      </a:lnTo>
                      <a:lnTo>
                        <a:pt x="136" y="296"/>
                      </a:lnTo>
                      <a:lnTo>
                        <a:pt x="167" y="342"/>
                      </a:lnTo>
                      <a:lnTo>
                        <a:pt x="167" y="411"/>
                      </a:lnTo>
                      <a:lnTo>
                        <a:pt x="136" y="452"/>
                      </a:lnTo>
                      <a:lnTo>
                        <a:pt x="98" y="411"/>
                      </a:lnTo>
                      <a:lnTo>
                        <a:pt x="25" y="411"/>
                      </a:lnTo>
                      <a:lnTo>
                        <a:pt x="25" y="462"/>
                      </a:lnTo>
                      <a:lnTo>
                        <a:pt x="0" y="493"/>
                      </a:lnTo>
                      <a:lnTo>
                        <a:pt x="0" y="560"/>
                      </a:lnTo>
                      <a:lnTo>
                        <a:pt x="47" y="613"/>
                      </a:lnTo>
                      <a:lnTo>
                        <a:pt x="117" y="613"/>
                      </a:lnTo>
                      <a:lnTo>
                        <a:pt x="225" y="484"/>
                      </a:lnTo>
                      <a:lnTo>
                        <a:pt x="320" y="484"/>
                      </a:lnTo>
                      <a:lnTo>
                        <a:pt x="333" y="458"/>
                      </a:lnTo>
                      <a:lnTo>
                        <a:pt x="355" y="484"/>
                      </a:lnTo>
                      <a:lnTo>
                        <a:pt x="352" y="509"/>
                      </a:lnTo>
                      <a:lnTo>
                        <a:pt x="440" y="597"/>
                      </a:lnTo>
                      <a:lnTo>
                        <a:pt x="440" y="635"/>
                      </a:lnTo>
                      <a:lnTo>
                        <a:pt x="459" y="620"/>
                      </a:lnTo>
                      <a:lnTo>
                        <a:pt x="450" y="597"/>
                      </a:lnTo>
                      <a:lnTo>
                        <a:pt x="459" y="585"/>
                      </a:lnTo>
                      <a:lnTo>
                        <a:pt x="475" y="597"/>
                      </a:lnTo>
                      <a:lnTo>
                        <a:pt x="482" y="594"/>
                      </a:lnTo>
                      <a:lnTo>
                        <a:pt x="390" y="481"/>
                      </a:lnTo>
                      <a:lnTo>
                        <a:pt x="390" y="440"/>
                      </a:lnTo>
                      <a:lnTo>
                        <a:pt x="415" y="440"/>
                      </a:lnTo>
                      <a:lnTo>
                        <a:pt x="415" y="462"/>
                      </a:lnTo>
                      <a:lnTo>
                        <a:pt x="507" y="563"/>
                      </a:lnTo>
                      <a:lnTo>
                        <a:pt x="507" y="594"/>
                      </a:lnTo>
                      <a:lnTo>
                        <a:pt x="545" y="639"/>
                      </a:lnTo>
                      <a:lnTo>
                        <a:pt x="535" y="648"/>
                      </a:lnTo>
                      <a:lnTo>
                        <a:pt x="564" y="680"/>
                      </a:lnTo>
                      <a:lnTo>
                        <a:pt x="605" y="632"/>
                      </a:lnTo>
                      <a:lnTo>
                        <a:pt x="580" y="604"/>
                      </a:lnTo>
                      <a:lnTo>
                        <a:pt x="605" y="575"/>
                      </a:lnTo>
                      <a:lnTo>
                        <a:pt x="641" y="575"/>
                      </a:lnTo>
                      <a:lnTo>
                        <a:pt x="657" y="560"/>
                      </a:lnTo>
                      <a:lnTo>
                        <a:pt x="679" y="560"/>
                      </a:lnTo>
                      <a:lnTo>
                        <a:pt x="650" y="519"/>
                      </a:lnTo>
                      <a:lnTo>
                        <a:pt x="666" y="500"/>
                      </a:lnTo>
                      <a:lnTo>
                        <a:pt x="666" y="433"/>
                      </a:lnTo>
                      <a:lnTo>
                        <a:pt x="695" y="398"/>
                      </a:lnTo>
                      <a:lnTo>
                        <a:pt x="707" y="411"/>
                      </a:lnTo>
                      <a:lnTo>
                        <a:pt x="736" y="411"/>
                      </a:lnTo>
                      <a:lnTo>
                        <a:pt x="723" y="430"/>
                      </a:lnTo>
                      <a:lnTo>
                        <a:pt x="748" y="458"/>
                      </a:lnTo>
                      <a:lnTo>
                        <a:pt x="764" y="433"/>
                      </a:lnTo>
                      <a:lnTo>
                        <a:pt x="783" y="433"/>
                      </a:lnTo>
                      <a:lnTo>
                        <a:pt x="783" y="424"/>
                      </a:lnTo>
                      <a:lnTo>
                        <a:pt x="774" y="424"/>
                      </a:lnTo>
                      <a:lnTo>
                        <a:pt x="758" y="411"/>
                      </a:lnTo>
                      <a:lnTo>
                        <a:pt x="799" y="361"/>
                      </a:lnTo>
                      <a:lnTo>
                        <a:pt x="799" y="433"/>
                      </a:lnTo>
                      <a:lnTo>
                        <a:pt x="808" y="433"/>
                      </a:lnTo>
                      <a:lnTo>
                        <a:pt x="808" y="0"/>
                      </a:lnTo>
                      <a:lnTo>
                        <a:pt x="5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310520" y="4748040"/>
                  <a:ext cx="1240200" cy="876600"/>
                </a:xfrm>
                <a:custGeom>
                  <a:avLst/>
                  <a:gdLst/>
                  <a:ahLst/>
                  <a:rect l="0" t="0" r="r" b="b"/>
                  <a:pathLst>
                    <a:path w="3445" h="2435">
                      <a:moveTo>
                        <a:pt x="0" y="716"/>
                      </a:moveTo>
                      <a:lnTo>
                        <a:pt x="101" y="640"/>
                      </a:lnTo>
                      <a:lnTo>
                        <a:pt x="196" y="494"/>
                      </a:lnTo>
                      <a:lnTo>
                        <a:pt x="313" y="424"/>
                      </a:lnTo>
                      <a:lnTo>
                        <a:pt x="433" y="507"/>
                      </a:lnTo>
                      <a:lnTo>
                        <a:pt x="449" y="573"/>
                      </a:lnTo>
                      <a:lnTo>
                        <a:pt x="421" y="573"/>
                      </a:lnTo>
                      <a:lnTo>
                        <a:pt x="373" y="567"/>
                      </a:lnTo>
                      <a:lnTo>
                        <a:pt x="433" y="640"/>
                      </a:lnTo>
                      <a:lnTo>
                        <a:pt x="683" y="545"/>
                      </a:lnTo>
                      <a:lnTo>
                        <a:pt x="652" y="472"/>
                      </a:lnTo>
                      <a:lnTo>
                        <a:pt x="759" y="348"/>
                      </a:lnTo>
                      <a:lnTo>
                        <a:pt x="829" y="351"/>
                      </a:lnTo>
                      <a:lnTo>
                        <a:pt x="762" y="393"/>
                      </a:lnTo>
                      <a:lnTo>
                        <a:pt x="705" y="484"/>
                      </a:lnTo>
                      <a:lnTo>
                        <a:pt x="705" y="545"/>
                      </a:lnTo>
                      <a:lnTo>
                        <a:pt x="807" y="611"/>
                      </a:lnTo>
                      <a:lnTo>
                        <a:pt x="953" y="421"/>
                      </a:lnTo>
                      <a:lnTo>
                        <a:pt x="1460" y="199"/>
                      </a:lnTo>
                      <a:lnTo>
                        <a:pt x="1457" y="72"/>
                      </a:lnTo>
                      <a:lnTo>
                        <a:pt x="1688" y="25"/>
                      </a:lnTo>
                      <a:lnTo>
                        <a:pt x="1817" y="91"/>
                      </a:lnTo>
                      <a:lnTo>
                        <a:pt x="2125" y="0"/>
                      </a:lnTo>
                      <a:lnTo>
                        <a:pt x="2219" y="47"/>
                      </a:lnTo>
                      <a:lnTo>
                        <a:pt x="2425" y="269"/>
                      </a:lnTo>
                      <a:lnTo>
                        <a:pt x="2660" y="225"/>
                      </a:lnTo>
                      <a:lnTo>
                        <a:pt x="2806" y="304"/>
                      </a:lnTo>
                      <a:lnTo>
                        <a:pt x="3170" y="288"/>
                      </a:lnTo>
                      <a:lnTo>
                        <a:pt x="3445" y="373"/>
                      </a:lnTo>
                      <a:lnTo>
                        <a:pt x="3420" y="494"/>
                      </a:lnTo>
                      <a:lnTo>
                        <a:pt x="3186" y="573"/>
                      </a:lnTo>
                      <a:lnTo>
                        <a:pt x="3227" y="652"/>
                      </a:lnTo>
                      <a:lnTo>
                        <a:pt x="3126" y="697"/>
                      </a:lnTo>
                      <a:lnTo>
                        <a:pt x="3119" y="855"/>
                      </a:lnTo>
                      <a:lnTo>
                        <a:pt x="3031" y="963"/>
                      </a:lnTo>
                      <a:lnTo>
                        <a:pt x="2993" y="865"/>
                      </a:lnTo>
                      <a:lnTo>
                        <a:pt x="3043" y="773"/>
                      </a:lnTo>
                      <a:lnTo>
                        <a:pt x="3034" y="583"/>
                      </a:lnTo>
                      <a:lnTo>
                        <a:pt x="2942" y="681"/>
                      </a:lnTo>
                      <a:lnTo>
                        <a:pt x="2869" y="735"/>
                      </a:lnTo>
                      <a:lnTo>
                        <a:pt x="2800" y="649"/>
                      </a:lnTo>
                      <a:lnTo>
                        <a:pt x="2749" y="865"/>
                      </a:lnTo>
                      <a:lnTo>
                        <a:pt x="2803" y="865"/>
                      </a:lnTo>
                      <a:lnTo>
                        <a:pt x="2790" y="1007"/>
                      </a:lnTo>
                      <a:lnTo>
                        <a:pt x="2727" y="1160"/>
                      </a:lnTo>
                      <a:lnTo>
                        <a:pt x="2651" y="1221"/>
                      </a:lnTo>
                      <a:lnTo>
                        <a:pt x="2714" y="1322"/>
                      </a:lnTo>
                      <a:lnTo>
                        <a:pt x="2673" y="1392"/>
                      </a:lnTo>
                      <a:lnTo>
                        <a:pt x="2657" y="1332"/>
                      </a:lnTo>
                      <a:lnTo>
                        <a:pt x="2657" y="1309"/>
                      </a:lnTo>
                      <a:lnTo>
                        <a:pt x="2607" y="1275"/>
                      </a:lnTo>
                      <a:lnTo>
                        <a:pt x="2523" y="1319"/>
                      </a:lnTo>
                      <a:lnTo>
                        <a:pt x="2597" y="1487"/>
                      </a:lnTo>
                      <a:lnTo>
                        <a:pt x="2622" y="1573"/>
                      </a:lnTo>
                      <a:lnTo>
                        <a:pt x="2536" y="1804"/>
                      </a:lnTo>
                      <a:lnTo>
                        <a:pt x="2378" y="1867"/>
                      </a:lnTo>
                      <a:lnTo>
                        <a:pt x="2248" y="1855"/>
                      </a:lnTo>
                      <a:lnTo>
                        <a:pt x="2311" y="1950"/>
                      </a:lnTo>
                      <a:lnTo>
                        <a:pt x="2318" y="2083"/>
                      </a:lnTo>
                      <a:lnTo>
                        <a:pt x="2226" y="2238"/>
                      </a:lnTo>
                      <a:lnTo>
                        <a:pt x="2121" y="2153"/>
                      </a:lnTo>
                      <a:lnTo>
                        <a:pt x="2106" y="2244"/>
                      </a:lnTo>
                      <a:lnTo>
                        <a:pt x="2185" y="2321"/>
                      </a:lnTo>
                      <a:lnTo>
                        <a:pt x="2251" y="2435"/>
                      </a:lnTo>
                      <a:lnTo>
                        <a:pt x="2140" y="2368"/>
                      </a:lnTo>
                      <a:lnTo>
                        <a:pt x="2007" y="1985"/>
                      </a:lnTo>
                      <a:lnTo>
                        <a:pt x="1846" y="1880"/>
                      </a:lnTo>
                      <a:lnTo>
                        <a:pt x="1726" y="1890"/>
                      </a:lnTo>
                      <a:lnTo>
                        <a:pt x="1574" y="2108"/>
                      </a:lnTo>
                      <a:lnTo>
                        <a:pt x="1593" y="2184"/>
                      </a:lnTo>
                      <a:lnTo>
                        <a:pt x="1542" y="2340"/>
                      </a:lnTo>
                      <a:lnTo>
                        <a:pt x="1491" y="2340"/>
                      </a:lnTo>
                      <a:lnTo>
                        <a:pt x="1317" y="2016"/>
                      </a:lnTo>
                      <a:lnTo>
                        <a:pt x="1317" y="1877"/>
                      </a:lnTo>
                      <a:lnTo>
                        <a:pt x="1279" y="1928"/>
                      </a:lnTo>
                      <a:lnTo>
                        <a:pt x="1181" y="1924"/>
                      </a:lnTo>
                      <a:lnTo>
                        <a:pt x="1219" y="1839"/>
                      </a:lnTo>
                      <a:lnTo>
                        <a:pt x="1064" y="1728"/>
                      </a:lnTo>
                      <a:lnTo>
                        <a:pt x="871" y="1728"/>
                      </a:lnTo>
                      <a:lnTo>
                        <a:pt x="705" y="1617"/>
                      </a:lnTo>
                      <a:lnTo>
                        <a:pt x="696" y="1728"/>
                      </a:lnTo>
                      <a:lnTo>
                        <a:pt x="832" y="1829"/>
                      </a:lnTo>
                      <a:lnTo>
                        <a:pt x="880" y="1826"/>
                      </a:lnTo>
                      <a:lnTo>
                        <a:pt x="740" y="1966"/>
                      </a:lnTo>
                      <a:lnTo>
                        <a:pt x="601" y="1997"/>
                      </a:lnTo>
                      <a:lnTo>
                        <a:pt x="601" y="1918"/>
                      </a:lnTo>
                      <a:lnTo>
                        <a:pt x="402" y="1642"/>
                      </a:lnTo>
                      <a:lnTo>
                        <a:pt x="376" y="1569"/>
                      </a:lnTo>
                      <a:lnTo>
                        <a:pt x="484" y="1481"/>
                      </a:lnTo>
                      <a:lnTo>
                        <a:pt x="471" y="1370"/>
                      </a:lnTo>
                      <a:lnTo>
                        <a:pt x="471" y="1246"/>
                      </a:lnTo>
                      <a:lnTo>
                        <a:pt x="525" y="1221"/>
                      </a:lnTo>
                      <a:lnTo>
                        <a:pt x="471" y="1160"/>
                      </a:lnTo>
                      <a:lnTo>
                        <a:pt x="471" y="716"/>
                      </a:lnTo>
                      <a:lnTo>
                        <a:pt x="193" y="716"/>
                      </a:lnTo>
                      <a:lnTo>
                        <a:pt x="272" y="611"/>
                      </a:lnTo>
                      <a:lnTo>
                        <a:pt x="265" y="573"/>
                      </a:lnTo>
                      <a:lnTo>
                        <a:pt x="174" y="665"/>
                      </a:lnTo>
                      <a:lnTo>
                        <a:pt x="142" y="716"/>
                      </a:lnTo>
                      <a:lnTo>
                        <a:pt x="0" y="71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88280" y="5106960"/>
                  <a:ext cx="106560" cy="178200"/>
                </a:xfrm>
                <a:custGeom>
                  <a:avLst/>
                  <a:gdLst/>
                  <a:ahLst/>
                  <a:rect l="0" t="0" r="r" b="b"/>
                  <a:pathLst>
                    <a:path w="296" h="495">
                      <a:moveTo>
                        <a:pt x="201" y="0"/>
                      </a:moveTo>
                      <a:lnTo>
                        <a:pt x="201" y="63"/>
                      </a:lnTo>
                      <a:lnTo>
                        <a:pt x="175" y="104"/>
                      </a:lnTo>
                      <a:lnTo>
                        <a:pt x="182" y="171"/>
                      </a:lnTo>
                      <a:lnTo>
                        <a:pt x="150" y="260"/>
                      </a:lnTo>
                      <a:lnTo>
                        <a:pt x="98" y="342"/>
                      </a:lnTo>
                      <a:lnTo>
                        <a:pt x="22" y="397"/>
                      </a:lnTo>
                      <a:lnTo>
                        <a:pt x="0" y="489"/>
                      </a:lnTo>
                      <a:lnTo>
                        <a:pt x="31" y="495"/>
                      </a:lnTo>
                      <a:lnTo>
                        <a:pt x="31" y="410"/>
                      </a:lnTo>
                      <a:lnTo>
                        <a:pt x="139" y="404"/>
                      </a:lnTo>
                      <a:lnTo>
                        <a:pt x="220" y="346"/>
                      </a:lnTo>
                      <a:lnTo>
                        <a:pt x="220" y="228"/>
                      </a:lnTo>
                      <a:lnTo>
                        <a:pt x="245" y="184"/>
                      </a:lnTo>
                      <a:lnTo>
                        <a:pt x="204" y="107"/>
                      </a:lnTo>
                      <a:lnTo>
                        <a:pt x="261" y="85"/>
                      </a:lnTo>
                      <a:lnTo>
                        <a:pt x="296" y="25"/>
                      </a:lnTo>
                      <a:lnTo>
                        <a:pt x="220" y="3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885080" y="5584680"/>
                  <a:ext cx="25920" cy="39960"/>
                </a:xfrm>
                <a:custGeom>
                  <a:avLst/>
                  <a:gdLst/>
                  <a:ahLst/>
                  <a:rect l="0" t="0" r="r" b="b"/>
                  <a:pathLst>
                    <a:path w="72" h="111">
                      <a:moveTo>
                        <a:pt x="36" y="0"/>
                      </a:moveTo>
                      <a:lnTo>
                        <a:pt x="0" y="50"/>
                      </a:lnTo>
                      <a:lnTo>
                        <a:pt x="24" y="111"/>
                      </a:lnTo>
                      <a:lnTo>
                        <a:pt x="72" y="6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047080" y="5627520"/>
                  <a:ext cx="249480" cy="106560"/>
                </a:xfrm>
                <a:custGeom>
                  <a:avLst/>
                  <a:gdLst/>
                  <a:ahLst/>
                  <a:rect l="0" t="0" r="r" b="b"/>
                  <a:pathLst>
                    <a:path w="693" h="296">
                      <a:moveTo>
                        <a:pt x="0" y="0"/>
                      </a:moveTo>
                      <a:lnTo>
                        <a:pt x="104" y="22"/>
                      </a:lnTo>
                      <a:lnTo>
                        <a:pt x="259" y="130"/>
                      </a:lnTo>
                      <a:lnTo>
                        <a:pt x="237" y="191"/>
                      </a:lnTo>
                      <a:lnTo>
                        <a:pt x="364" y="245"/>
                      </a:lnTo>
                      <a:lnTo>
                        <a:pt x="693" y="245"/>
                      </a:lnTo>
                      <a:lnTo>
                        <a:pt x="335" y="296"/>
                      </a:lnTo>
                      <a:lnTo>
                        <a:pt x="237" y="191"/>
                      </a:lnTo>
                      <a:lnTo>
                        <a:pt x="145" y="1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247240" y="5716440"/>
                  <a:ext cx="267120" cy="251280"/>
                </a:xfrm>
                <a:custGeom>
                  <a:avLst/>
                  <a:gdLst/>
                  <a:ahLst/>
                  <a:rect l="0" t="0" r="r" b="b"/>
                  <a:pathLst>
                    <a:path w="742" h="698">
                      <a:moveTo>
                        <a:pt x="619" y="682"/>
                      </a:moveTo>
                      <a:lnTo>
                        <a:pt x="600" y="686"/>
                      </a:lnTo>
                      <a:lnTo>
                        <a:pt x="585" y="698"/>
                      </a:lnTo>
                      <a:lnTo>
                        <a:pt x="566" y="673"/>
                      </a:lnTo>
                      <a:lnTo>
                        <a:pt x="499" y="641"/>
                      </a:lnTo>
                      <a:lnTo>
                        <a:pt x="486" y="594"/>
                      </a:lnTo>
                      <a:lnTo>
                        <a:pt x="464" y="578"/>
                      </a:lnTo>
                      <a:lnTo>
                        <a:pt x="410" y="578"/>
                      </a:lnTo>
                      <a:lnTo>
                        <a:pt x="410" y="540"/>
                      </a:lnTo>
                      <a:lnTo>
                        <a:pt x="391" y="530"/>
                      </a:lnTo>
                      <a:lnTo>
                        <a:pt x="388" y="498"/>
                      </a:lnTo>
                      <a:lnTo>
                        <a:pt x="347" y="491"/>
                      </a:lnTo>
                      <a:lnTo>
                        <a:pt x="309" y="482"/>
                      </a:lnTo>
                      <a:lnTo>
                        <a:pt x="275" y="491"/>
                      </a:lnTo>
                      <a:lnTo>
                        <a:pt x="275" y="498"/>
                      </a:lnTo>
                      <a:lnTo>
                        <a:pt x="196" y="524"/>
                      </a:lnTo>
                      <a:lnTo>
                        <a:pt x="196" y="537"/>
                      </a:lnTo>
                      <a:lnTo>
                        <a:pt x="126" y="537"/>
                      </a:lnTo>
                      <a:lnTo>
                        <a:pt x="88" y="559"/>
                      </a:lnTo>
                      <a:lnTo>
                        <a:pt x="47" y="537"/>
                      </a:lnTo>
                      <a:lnTo>
                        <a:pt x="44" y="530"/>
                      </a:lnTo>
                      <a:lnTo>
                        <a:pt x="44" y="482"/>
                      </a:lnTo>
                      <a:lnTo>
                        <a:pt x="31" y="441"/>
                      </a:lnTo>
                      <a:lnTo>
                        <a:pt x="15" y="403"/>
                      </a:lnTo>
                      <a:lnTo>
                        <a:pt x="25" y="374"/>
                      </a:lnTo>
                      <a:lnTo>
                        <a:pt x="9" y="362"/>
                      </a:lnTo>
                      <a:lnTo>
                        <a:pt x="0" y="295"/>
                      </a:lnTo>
                      <a:lnTo>
                        <a:pt x="9" y="251"/>
                      </a:lnTo>
                      <a:lnTo>
                        <a:pt x="50" y="216"/>
                      </a:lnTo>
                      <a:lnTo>
                        <a:pt x="138" y="191"/>
                      </a:lnTo>
                      <a:lnTo>
                        <a:pt x="160" y="161"/>
                      </a:lnTo>
                      <a:lnTo>
                        <a:pt x="151" y="129"/>
                      </a:lnTo>
                      <a:lnTo>
                        <a:pt x="173" y="120"/>
                      </a:lnTo>
                      <a:lnTo>
                        <a:pt x="179" y="136"/>
                      </a:lnTo>
                      <a:lnTo>
                        <a:pt x="190" y="110"/>
                      </a:lnTo>
                      <a:lnTo>
                        <a:pt x="243" y="69"/>
                      </a:lnTo>
                      <a:lnTo>
                        <a:pt x="275" y="88"/>
                      </a:lnTo>
                      <a:lnTo>
                        <a:pt x="309" y="79"/>
                      </a:lnTo>
                      <a:lnTo>
                        <a:pt x="322" y="41"/>
                      </a:lnTo>
                      <a:lnTo>
                        <a:pt x="357" y="31"/>
                      </a:lnTo>
                      <a:lnTo>
                        <a:pt x="347" y="6"/>
                      </a:lnTo>
                      <a:lnTo>
                        <a:pt x="395" y="25"/>
                      </a:lnTo>
                      <a:lnTo>
                        <a:pt x="436" y="15"/>
                      </a:lnTo>
                      <a:lnTo>
                        <a:pt x="458" y="107"/>
                      </a:lnTo>
                      <a:lnTo>
                        <a:pt x="486" y="136"/>
                      </a:lnTo>
                      <a:lnTo>
                        <a:pt x="514" y="136"/>
                      </a:lnTo>
                      <a:lnTo>
                        <a:pt x="527" y="79"/>
                      </a:lnTo>
                      <a:lnTo>
                        <a:pt x="521" y="50"/>
                      </a:lnTo>
                      <a:lnTo>
                        <a:pt x="527" y="6"/>
                      </a:lnTo>
                      <a:lnTo>
                        <a:pt x="543" y="0"/>
                      </a:lnTo>
                      <a:lnTo>
                        <a:pt x="566" y="57"/>
                      </a:lnTo>
                      <a:lnTo>
                        <a:pt x="585" y="69"/>
                      </a:lnTo>
                      <a:lnTo>
                        <a:pt x="597" y="120"/>
                      </a:lnTo>
                      <a:lnTo>
                        <a:pt x="619" y="191"/>
                      </a:lnTo>
                      <a:lnTo>
                        <a:pt x="651" y="210"/>
                      </a:lnTo>
                      <a:lnTo>
                        <a:pt x="692" y="263"/>
                      </a:lnTo>
                      <a:lnTo>
                        <a:pt x="698" y="289"/>
                      </a:lnTo>
                      <a:lnTo>
                        <a:pt x="733" y="320"/>
                      </a:lnTo>
                      <a:lnTo>
                        <a:pt x="742" y="377"/>
                      </a:lnTo>
                      <a:lnTo>
                        <a:pt x="742" y="422"/>
                      </a:lnTo>
                      <a:lnTo>
                        <a:pt x="733" y="491"/>
                      </a:lnTo>
                      <a:lnTo>
                        <a:pt x="698" y="537"/>
                      </a:lnTo>
                      <a:lnTo>
                        <a:pt x="686" y="594"/>
                      </a:lnTo>
                      <a:lnTo>
                        <a:pt x="686" y="641"/>
                      </a:lnTo>
                      <a:lnTo>
                        <a:pt x="651" y="651"/>
                      </a:lnTo>
                      <a:lnTo>
                        <a:pt x="619" y="68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461440" y="59817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38" y="76"/>
                      </a:moveTo>
                      <a:lnTo>
                        <a:pt x="12" y="62"/>
                      </a:lnTo>
                      <a:lnTo>
                        <a:pt x="12" y="49"/>
                      </a:lnTo>
                      <a:lnTo>
                        <a:pt x="12" y="36"/>
                      </a:lnTo>
                      <a:lnTo>
                        <a:pt x="8" y="23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38" y="12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64" y="49"/>
                      </a:lnTo>
                      <a:lnTo>
                        <a:pt x="55" y="62"/>
                      </a:lnTo>
                      <a:lnTo>
                        <a:pt x="55" y="72"/>
                      </a:lnTo>
                      <a:lnTo>
                        <a:pt x="50" y="76"/>
                      </a:lnTo>
                      <a:lnTo>
                        <a:pt x="50" y="85"/>
                      </a:lnTo>
                      <a:lnTo>
                        <a:pt x="38" y="7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523280" y="5694480"/>
                  <a:ext cx="28800" cy="119520"/>
                </a:xfrm>
                <a:custGeom>
                  <a:avLst/>
                  <a:gdLst/>
                  <a:ahLst/>
                  <a:rect l="0" t="0" r="r" b="b"/>
                  <a:pathLst>
                    <a:path w="80" h="332">
                      <a:moveTo>
                        <a:pt x="9" y="117"/>
                      </a:moveTo>
                      <a:lnTo>
                        <a:pt x="42" y="89"/>
                      </a:lnTo>
                      <a:lnTo>
                        <a:pt x="64" y="0"/>
                      </a:lnTo>
                      <a:lnTo>
                        <a:pt x="80" y="133"/>
                      </a:lnTo>
                      <a:lnTo>
                        <a:pt x="54" y="298"/>
                      </a:lnTo>
                      <a:lnTo>
                        <a:pt x="0" y="332"/>
                      </a:lnTo>
                      <a:lnTo>
                        <a:pt x="0" y="253"/>
                      </a:lnTo>
                      <a:lnTo>
                        <a:pt x="15" y="202"/>
                      </a:lnTo>
                      <a:lnTo>
                        <a:pt x="9" y="11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14480"/>
            <a:ext cx="9142560" cy="6741720"/>
            <a:chOff x="0" y="114480"/>
            <a:chExt cx="9142560" cy="674172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4920" cy="3148200"/>
                <a:chOff x="3633840" y="114480"/>
                <a:chExt cx="2284920" cy="31482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1" y="0"/>
                      </a:moveTo>
                      <a:lnTo>
                        <a:pt x="3974" y="145"/>
                      </a:lnTo>
                      <a:lnTo>
                        <a:pt x="4348" y="343"/>
                      </a:lnTo>
                      <a:lnTo>
                        <a:pt x="4701" y="568"/>
                      </a:lnTo>
                      <a:lnTo>
                        <a:pt x="5029" y="824"/>
                      </a:lnTo>
                      <a:lnTo>
                        <a:pt x="5324" y="1128"/>
                      </a:lnTo>
                      <a:lnTo>
                        <a:pt x="5580" y="1455"/>
                      </a:lnTo>
                      <a:lnTo>
                        <a:pt x="5805" y="1807"/>
                      </a:lnTo>
                      <a:lnTo>
                        <a:pt x="6003" y="2170"/>
                      </a:lnTo>
                      <a:lnTo>
                        <a:pt x="6149" y="2563"/>
                      </a:lnTo>
                      <a:lnTo>
                        <a:pt x="6259" y="2968"/>
                      </a:lnTo>
                      <a:lnTo>
                        <a:pt x="6329" y="3378"/>
                      </a:lnTo>
                      <a:lnTo>
                        <a:pt x="6347" y="3802"/>
                      </a:lnTo>
                      <a:lnTo>
                        <a:pt x="6329" y="4225"/>
                      </a:lnTo>
                      <a:lnTo>
                        <a:pt x="6259" y="4640"/>
                      </a:lnTo>
                      <a:lnTo>
                        <a:pt x="6149" y="5041"/>
                      </a:lnTo>
                      <a:lnTo>
                        <a:pt x="6003" y="5424"/>
                      </a:lnTo>
                      <a:lnTo>
                        <a:pt x="5805" y="5795"/>
                      </a:lnTo>
                      <a:lnTo>
                        <a:pt x="5580" y="6153"/>
                      </a:lnTo>
                      <a:lnTo>
                        <a:pt x="5324" y="6475"/>
                      </a:lnTo>
                      <a:lnTo>
                        <a:pt x="5029" y="6779"/>
                      </a:lnTo>
                      <a:lnTo>
                        <a:pt x="4701" y="7044"/>
                      </a:lnTo>
                      <a:lnTo>
                        <a:pt x="4348" y="7260"/>
                      </a:lnTo>
                      <a:lnTo>
                        <a:pt x="3974" y="7458"/>
                      </a:lnTo>
                      <a:lnTo>
                        <a:pt x="3581" y="7604"/>
                      </a:lnTo>
                      <a:lnTo>
                        <a:pt x="3180" y="7714"/>
                      </a:lnTo>
                      <a:lnTo>
                        <a:pt x="2765" y="7785"/>
                      </a:lnTo>
                      <a:lnTo>
                        <a:pt x="2351" y="7802"/>
                      </a:lnTo>
                      <a:lnTo>
                        <a:pt x="1928" y="7785"/>
                      </a:lnTo>
                      <a:lnTo>
                        <a:pt x="1516" y="7714"/>
                      </a:lnTo>
                      <a:lnTo>
                        <a:pt x="1111" y="7604"/>
                      </a:lnTo>
                      <a:lnTo>
                        <a:pt x="727" y="7458"/>
                      </a:lnTo>
                      <a:lnTo>
                        <a:pt x="352" y="7260"/>
                      </a:lnTo>
                      <a:lnTo>
                        <a:pt x="0" y="7044"/>
                      </a:lnTo>
                      <a:lnTo>
                        <a:pt x="224" y="6722"/>
                      </a:lnTo>
                      <a:lnTo>
                        <a:pt x="551" y="6929"/>
                      </a:lnTo>
                      <a:lnTo>
                        <a:pt x="886" y="7097"/>
                      </a:lnTo>
                      <a:lnTo>
                        <a:pt x="1239" y="7233"/>
                      </a:lnTo>
                      <a:lnTo>
                        <a:pt x="1606" y="7330"/>
                      </a:lnTo>
                      <a:lnTo>
                        <a:pt x="1967" y="7388"/>
                      </a:lnTo>
                      <a:lnTo>
                        <a:pt x="2351" y="7410"/>
                      </a:lnTo>
                      <a:lnTo>
                        <a:pt x="2726" y="7388"/>
                      </a:lnTo>
                      <a:lnTo>
                        <a:pt x="3101" y="7330"/>
                      </a:lnTo>
                      <a:lnTo>
                        <a:pt x="3462" y="7233"/>
                      </a:lnTo>
                      <a:lnTo>
                        <a:pt x="3819" y="7097"/>
                      </a:lnTo>
                      <a:lnTo>
                        <a:pt x="4150" y="6929"/>
                      </a:lnTo>
                      <a:lnTo>
                        <a:pt x="4468" y="6722"/>
                      </a:lnTo>
                      <a:lnTo>
                        <a:pt x="4764" y="6484"/>
                      </a:lnTo>
                      <a:lnTo>
                        <a:pt x="5029" y="6219"/>
                      </a:lnTo>
                      <a:lnTo>
                        <a:pt x="5267" y="5924"/>
                      </a:lnTo>
                      <a:lnTo>
                        <a:pt x="5470" y="5601"/>
                      </a:lnTo>
                      <a:lnTo>
                        <a:pt x="5650" y="5266"/>
                      </a:lnTo>
                      <a:lnTo>
                        <a:pt x="5787" y="4922"/>
                      </a:lnTo>
                      <a:lnTo>
                        <a:pt x="5875" y="4551"/>
                      </a:lnTo>
                      <a:lnTo>
                        <a:pt x="5933" y="4177"/>
                      </a:lnTo>
                      <a:lnTo>
                        <a:pt x="5955" y="3802"/>
                      </a:lnTo>
                      <a:lnTo>
                        <a:pt x="5933" y="3418"/>
                      </a:lnTo>
                      <a:lnTo>
                        <a:pt x="5875" y="3048"/>
                      </a:lnTo>
                      <a:lnTo>
                        <a:pt x="5787" y="2682"/>
                      </a:lnTo>
                      <a:lnTo>
                        <a:pt x="5650" y="2338"/>
                      </a:lnTo>
                      <a:lnTo>
                        <a:pt x="5470" y="1994"/>
                      </a:lnTo>
                      <a:lnTo>
                        <a:pt x="5267" y="1680"/>
                      </a:lnTo>
                      <a:lnTo>
                        <a:pt x="5029" y="1384"/>
                      </a:lnTo>
                      <a:lnTo>
                        <a:pt x="4764" y="1120"/>
                      </a:lnTo>
                      <a:lnTo>
                        <a:pt x="4468" y="886"/>
                      </a:lnTo>
                      <a:lnTo>
                        <a:pt x="4150" y="679"/>
                      </a:lnTo>
                      <a:lnTo>
                        <a:pt x="3819" y="502"/>
                      </a:lnTo>
                      <a:lnTo>
                        <a:pt x="3462" y="374"/>
                      </a:lnTo>
                      <a:lnTo>
                        <a:pt x="3475" y="343"/>
                      </a:lnTo>
                      <a:lnTo>
                        <a:pt x="358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8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3" y="433"/>
                      </a:moveTo>
                      <a:lnTo>
                        <a:pt x="88" y="353"/>
                      </a:lnTo>
                      <a:lnTo>
                        <a:pt x="194" y="286"/>
                      </a:lnTo>
                      <a:lnTo>
                        <a:pt x="392" y="189"/>
                      </a:lnTo>
                      <a:lnTo>
                        <a:pt x="617" y="132"/>
                      </a:lnTo>
                      <a:lnTo>
                        <a:pt x="829" y="83"/>
                      </a:lnTo>
                      <a:lnTo>
                        <a:pt x="1115" y="39"/>
                      </a:lnTo>
                      <a:lnTo>
                        <a:pt x="1384" y="13"/>
                      </a:lnTo>
                      <a:lnTo>
                        <a:pt x="1702" y="0"/>
                      </a:lnTo>
                      <a:lnTo>
                        <a:pt x="2095" y="4"/>
                      </a:lnTo>
                      <a:lnTo>
                        <a:pt x="2501" y="26"/>
                      </a:lnTo>
                      <a:lnTo>
                        <a:pt x="2787" y="61"/>
                      </a:lnTo>
                      <a:lnTo>
                        <a:pt x="3087" y="119"/>
                      </a:lnTo>
                      <a:lnTo>
                        <a:pt x="3374" y="207"/>
                      </a:lnTo>
                      <a:lnTo>
                        <a:pt x="3524" y="291"/>
                      </a:lnTo>
                      <a:lnTo>
                        <a:pt x="3616" y="362"/>
                      </a:lnTo>
                      <a:lnTo>
                        <a:pt x="3705" y="477"/>
                      </a:lnTo>
                      <a:lnTo>
                        <a:pt x="3555" y="538"/>
                      </a:lnTo>
                      <a:lnTo>
                        <a:pt x="3299" y="587"/>
                      </a:lnTo>
                      <a:lnTo>
                        <a:pt x="2981" y="622"/>
                      </a:lnTo>
                      <a:lnTo>
                        <a:pt x="2682" y="653"/>
                      </a:lnTo>
                      <a:lnTo>
                        <a:pt x="2320" y="666"/>
                      </a:lnTo>
                      <a:lnTo>
                        <a:pt x="1928" y="671"/>
                      </a:lnTo>
                      <a:lnTo>
                        <a:pt x="1552" y="671"/>
                      </a:lnTo>
                      <a:lnTo>
                        <a:pt x="1159" y="666"/>
                      </a:lnTo>
                      <a:lnTo>
                        <a:pt x="723" y="631"/>
                      </a:lnTo>
                      <a:lnTo>
                        <a:pt x="374" y="596"/>
                      </a:lnTo>
                      <a:lnTo>
                        <a:pt x="88" y="530"/>
                      </a:lnTo>
                      <a:lnTo>
                        <a:pt x="0" y="481"/>
                      </a:lnTo>
                      <a:lnTo>
                        <a:pt x="13" y="4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16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8600" cy="1759680"/>
                <a:chOff x="3287880" y="644400"/>
                <a:chExt cx="2208600" cy="17596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79560" cy="74880"/>
                </a:xfrm>
                <a:custGeom>
                  <a:avLst/>
                  <a:gdLst/>
                  <a:ahLst/>
                  <a:rect l="0" t="0" r="r" b="b"/>
                  <a:pathLst>
                    <a:path w="221" h="208">
                      <a:moveTo>
                        <a:pt x="221" y="0"/>
                      </a:moveTo>
                      <a:lnTo>
                        <a:pt x="137" y="0"/>
                      </a:lnTo>
                      <a:lnTo>
                        <a:pt x="88" y="57"/>
                      </a:lnTo>
                      <a:lnTo>
                        <a:pt x="57" y="57"/>
                      </a:lnTo>
                      <a:lnTo>
                        <a:pt x="30" y="83"/>
                      </a:lnTo>
                      <a:lnTo>
                        <a:pt x="0" y="83"/>
                      </a:lnTo>
                      <a:lnTo>
                        <a:pt x="0" y="155"/>
                      </a:lnTo>
                      <a:lnTo>
                        <a:pt x="52" y="208"/>
                      </a:lnTo>
                      <a:lnTo>
                        <a:pt x="181" y="208"/>
                      </a:lnTo>
                      <a:lnTo>
                        <a:pt x="221" y="155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4600" cy="930600"/>
                </a:xfrm>
                <a:custGeom>
                  <a:avLst/>
                  <a:gdLst/>
                  <a:ahLst/>
                  <a:rect l="0" t="0" r="r" b="b"/>
                  <a:pathLst>
                    <a:path w="1985" h="2585">
                      <a:moveTo>
                        <a:pt x="471" y="0"/>
                      </a:moveTo>
                      <a:lnTo>
                        <a:pt x="436" y="70"/>
                      </a:lnTo>
                      <a:lnTo>
                        <a:pt x="282" y="207"/>
                      </a:lnTo>
                      <a:lnTo>
                        <a:pt x="246" y="330"/>
                      </a:lnTo>
                      <a:lnTo>
                        <a:pt x="132" y="418"/>
                      </a:lnTo>
                      <a:lnTo>
                        <a:pt x="52" y="595"/>
                      </a:lnTo>
                      <a:lnTo>
                        <a:pt x="52" y="701"/>
                      </a:lnTo>
                      <a:lnTo>
                        <a:pt x="0" y="886"/>
                      </a:lnTo>
                      <a:lnTo>
                        <a:pt x="70" y="965"/>
                      </a:lnTo>
                      <a:lnTo>
                        <a:pt x="246" y="1199"/>
                      </a:lnTo>
                      <a:lnTo>
                        <a:pt x="299" y="1168"/>
                      </a:lnTo>
                      <a:lnTo>
                        <a:pt x="612" y="1168"/>
                      </a:lnTo>
                      <a:lnTo>
                        <a:pt x="758" y="1225"/>
                      </a:lnTo>
                      <a:lnTo>
                        <a:pt x="745" y="1407"/>
                      </a:lnTo>
                      <a:lnTo>
                        <a:pt x="851" y="1650"/>
                      </a:lnTo>
                      <a:lnTo>
                        <a:pt x="842" y="1716"/>
                      </a:lnTo>
                      <a:lnTo>
                        <a:pt x="886" y="1791"/>
                      </a:lnTo>
                      <a:lnTo>
                        <a:pt x="820" y="1963"/>
                      </a:lnTo>
                      <a:lnTo>
                        <a:pt x="899" y="2179"/>
                      </a:lnTo>
                      <a:lnTo>
                        <a:pt x="943" y="2346"/>
                      </a:lnTo>
                      <a:lnTo>
                        <a:pt x="997" y="2452"/>
                      </a:lnTo>
                      <a:lnTo>
                        <a:pt x="1054" y="2585"/>
                      </a:lnTo>
                      <a:lnTo>
                        <a:pt x="1160" y="2567"/>
                      </a:lnTo>
                      <a:lnTo>
                        <a:pt x="1332" y="2470"/>
                      </a:lnTo>
                      <a:lnTo>
                        <a:pt x="1412" y="2351"/>
                      </a:lnTo>
                      <a:lnTo>
                        <a:pt x="1407" y="2272"/>
                      </a:lnTo>
                      <a:lnTo>
                        <a:pt x="1509" y="2205"/>
                      </a:lnTo>
                      <a:lnTo>
                        <a:pt x="1491" y="2091"/>
                      </a:lnTo>
                      <a:lnTo>
                        <a:pt x="1645" y="1906"/>
                      </a:lnTo>
                      <a:lnTo>
                        <a:pt x="1667" y="1756"/>
                      </a:lnTo>
                      <a:lnTo>
                        <a:pt x="1628" y="1703"/>
                      </a:lnTo>
                      <a:lnTo>
                        <a:pt x="1645" y="1641"/>
                      </a:lnTo>
                      <a:lnTo>
                        <a:pt x="1610" y="1588"/>
                      </a:lnTo>
                      <a:lnTo>
                        <a:pt x="1725" y="1442"/>
                      </a:lnTo>
                      <a:lnTo>
                        <a:pt x="1725" y="1368"/>
                      </a:lnTo>
                      <a:lnTo>
                        <a:pt x="1883" y="1243"/>
                      </a:lnTo>
                      <a:lnTo>
                        <a:pt x="1985" y="912"/>
                      </a:lnTo>
                      <a:lnTo>
                        <a:pt x="1839" y="996"/>
                      </a:lnTo>
                      <a:lnTo>
                        <a:pt x="1711" y="961"/>
                      </a:lnTo>
                      <a:lnTo>
                        <a:pt x="1729" y="881"/>
                      </a:lnTo>
                      <a:lnTo>
                        <a:pt x="1601" y="793"/>
                      </a:lnTo>
                      <a:lnTo>
                        <a:pt x="1539" y="582"/>
                      </a:lnTo>
                      <a:lnTo>
                        <a:pt x="1416" y="410"/>
                      </a:lnTo>
                      <a:lnTo>
                        <a:pt x="1416" y="291"/>
                      </a:lnTo>
                      <a:lnTo>
                        <a:pt x="1350" y="286"/>
                      </a:lnTo>
                      <a:lnTo>
                        <a:pt x="1306" y="304"/>
                      </a:lnTo>
                      <a:lnTo>
                        <a:pt x="1121" y="238"/>
                      </a:lnTo>
                      <a:lnTo>
                        <a:pt x="1072" y="286"/>
                      </a:lnTo>
                      <a:lnTo>
                        <a:pt x="1032" y="343"/>
                      </a:lnTo>
                      <a:lnTo>
                        <a:pt x="930" y="233"/>
                      </a:lnTo>
                      <a:lnTo>
                        <a:pt x="833" y="207"/>
                      </a:lnTo>
                      <a:lnTo>
                        <a:pt x="824" y="66"/>
                      </a:lnTo>
                      <a:lnTo>
                        <a:pt x="683" y="88"/>
                      </a:lnTo>
                      <a:lnTo>
                        <a:pt x="595" y="57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5920" cy="43200"/>
                </a:xfrm>
                <a:custGeom>
                  <a:avLst/>
                  <a:gdLst/>
                  <a:ahLst/>
                  <a:rect l="0" t="0" r="r" b="b"/>
                  <a:pathLst>
                    <a:path w="72" h="120">
                      <a:moveTo>
                        <a:pt x="31" y="0"/>
                      </a:moveTo>
                      <a:lnTo>
                        <a:pt x="40" y="35"/>
                      </a:lnTo>
                      <a:lnTo>
                        <a:pt x="31" y="62"/>
                      </a:lnTo>
                      <a:lnTo>
                        <a:pt x="31" y="84"/>
                      </a:lnTo>
                      <a:lnTo>
                        <a:pt x="72" y="102"/>
                      </a:lnTo>
                      <a:lnTo>
                        <a:pt x="72" y="120"/>
                      </a:lnTo>
                      <a:lnTo>
                        <a:pt x="40" y="102"/>
                      </a:lnTo>
                      <a:lnTo>
                        <a:pt x="13" y="120"/>
                      </a:lnTo>
                      <a:lnTo>
                        <a:pt x="0" y="102"/>
                      </a:lnTo>
                      <a:lnTo>
                        <a:pt x="13" y="84"/>
                      </a:lnTo>
                      <a:lnTo>
                        <a:pt x="0" y="62"/>
                      </a:lnTo>
                      <a:lnTo>
                        <a:pt x="13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6560" cy="152640"/>
                </a:xfrm>
                <a:custGeom>
                  <a:avLst/>
                  <a:gdLst/>
                  <a:ahLst/>
                  <a:rect l="0" t="0" r="r" b="b"/>
                  <a:pathLst>
                    <a:path w="296" h="424">
                      <a:moveTo>
                        <a:pt x="0" y="211"/>
                      </a:moveTo>
                      <a:lnTo>
                        <a:pt x="105" y="211"/>
                      </a:lnTo>
                      <a:lnTo>
                        <a:pt x="230" y="0"/>
                      </a:lnTo>
                      <a:lnTo>
                        <a:pt x="296" y="123"/>
                      </a:lnTo>
                      <a:lnTo>
                        <a:pt x="243" y="424"/>
                      </a:lnTo>
                      <a:lnTo>
                        <a:pt x="22" y="353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4680" cy="147960"/>
                </a:xfrm>
                <a:custGeom>
                  <a:avLst/>
                  <a:gdLst/>
                  <a:ahLst/>
                  <a:rect l="0" t="0" r="r" b="b"/>
                  <a:pathLst>
                    <a:path w="513" h="411">
                      <a:moveTo>
                        <a:pt x="30" y="97"/>
                      </a:moveTo>
                      <a:lnTo>
                        <a:pt x="0" y="0"/>
                      </a:lnTo>
                      <a:lnTo>
                        <a:pt x="172" y="39"/>
                      </a:lnTo>
                      <a:lnTo>
                        <a:pt x="420" y="141"/>
                      </a:lnTo>
                      <a:lnTo>
                        <a:pt x="420" y="217"/>
                      </a:lnTo>
                      <a:lnTo>
                        <a:pt x="513" y="411"/>
                      </a:lnTo>
                      <a:lnTo>
                        <a:pt x="322" y="225"/>
                      </a:lnTo>
                      <a:lnTo>
                        <a:pt x="195" y="239"/>
                      </a:lnTo>
                      <a:lnTo>
                        <a:pt x="3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4200" cy="159120"/>
                </a:xfrm>
                <a:custGeom>
                  <a:avLst/>
                  <a:gdLst/>
                  <a:ahLst/>
                  <a:rect l="0" t="0" r="r" b="b"/>
                  <a:pathLst>
                    <a:path w="345" h="442">
                      <a:moveTo>
                        <a:pt x="212" y="0"/>
                      </a:moveTo>
                      <a:lnTo>
                        <a:pt x="345" y="133"/>
                      </a:lnTo>
                      <a:lnTo>
                        <a:pt x="70" y="442"/>
                      </a:lnTo>
                      <a:lnTo>
                        <a:pt x="0" y="372"/>
                      </a:lnTo>
                      <a:lnTo>
                        <a:pt x="199" y="172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0840" cy="103680"/>
                </a:xfrm>
                <a:custGeom>
                  <a:avLst/>
                  <a:gdLst/>
                  <a:ahLst/>
                  <a:rect l="0" t="0" r="r" b="b"/>
                  <a:pathLst>
                    <a:path w="169" h="288">
                      <a:moveTo>
                        <a:pt x="169" y="226"/>
                      </a:moveTo>
                      <a:lnTo>
                        <a:pt x="124" y="190"/>
                      </a:lnTo>
                      <a:lnTo>
                        <a:pt x="124" y="61"/>
                      </a:lnTo>
                      <a:lnTo>
                        <a:pt x="147" y="35"/>
                      </a:lnTo>
                      <a:lnTo>
                        <a:pt x="106" y="35"/>
                      </a:lnTo>
                      <a:lnTo>
                        <a:pt x="129" y="0"/>
                      </a:lnTo>
                      <a:lnTo>
                        <a:pt x="98" y="0"/>
                      </a:lnTo>
                      <a:lnTo>
                        <a:pt x="62" y="39"/>
                      </a:lnTo>
                      <a:lnTo>
                        <a:pt x="62" y="120"/>
                      </a:lnTo>
                      <a:lnTo>
                        <a:pt x="80" y="137"/>
                      </a:lnTo>
                      <a:lnTo>
                        <a:pt x="80" y="172"/>
                      </a:lnTo>
                      <a:lnTo>
                        <a:pt x="71" y="172"/>
                      </a:lnTo>
                      <a:lnTo>
                        <a:pt x="39" y="203"/>
                      </a:lnTo>
                      <a:lnTo>
                        <a:pt x="39" y="235"/>
                      </a:lnTo>
                      <a:lnTo>
                        <a:pt x="0" y="288"/>
                      </a:lnTo>
                      <a:lnTo>
                        <a:pt x="129" y="288"/>
                      </a:lnTo>
                      <a:lnTo>
                        <a:pt x="169" y="2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2040" cy="36720"/>
                </a:xfrm>
                <a:custGeom>
                  <a:avLst/>
                  <a:gdLst/>
                  <a:ahLst/>
                  <a:rect l="0" t="0" r="r" b="b"/>
                  <a:pathLst>
                    <a:path w="89" h="102">
                      <a:moveTo>
                        <a:pt x="75" y="35"/>
                      </a:moveTo>
                      <a:lnTo>
                        <a:pt x="89" y="35"/>
                      </a:lnTo>
                      <a:lnTo>
                        <a:pt x="89" y="0"/>
                      </a:lnTo>
                      <a:lnTo>
                        <a:pt x="58" y="0"/>
                      </a:lnTo>
                      <a:lnTo>
                        <a:pt x="0" y="67"/>
                      </a:lnTo>
                      <a:lnTo>
                        <a:pt x="0" y="102"/>
                      </a:lnTo>
                      <a:lnTo>
                        <a:pt x="53" y="102"/>
                      </a:lnTo>
                      <a:lnTo>
                        <a:pt x="75" y="75"/>
                      </a:lnTo>
                      <a:lnTo>
                        <a:pt x="75" y="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5000" cy="341640"/>
                </a:xfrm>
                <a:custGeom>
                  <a:avLst/>
                  <a:gdLst/>
                  <a:ahLst/>
                  <a:rect l="0" t="0" r="r" b="b"/>
                  <a:pathLst>
                    <a:path w="1125" h="949">
                      <a:moveTo>
                        <a:pt x="741" y="0"/>
                      </a:moveTo>
                      <a:lnTo>
                        <a:pt x="741" y="66"/>
                      </a:lnTo>
                      <a:lnTo>
                        <a:pt x="763" y="88"/>
                      </a:lnTo>
                      <a:lnTo>
                        <a:pt x="887" y="88"/>
                      </a:lnTo>
                      <a:lnTo>
                        <a:pt x="887" y="123"/>
                      </a:lnTo>
                      <a:lnTo>
                        <a:pt x="799" y="123"/>
                      </a:lnTo>
                      <a:lnTo>
                        <a:pt x="799" y="229"/>
                      </a:lnTo>
                      <a:lnTo>
                        <a:pt x="759" y="180"/>
                      </a:lnTo>
                      <a:lnTo>
                        <a:pt x="759" y="246"/>
                      </a:lnTo>
                      <a:lnTo>
                        <a:pt x="706" y="308"/>
                      </a:lnTo>
                      <a:lnTo>
                        <a:pt x="671" y="273"/>
                      </a:lnTo>
                      <a:lnTo>
                        <a:pt x="618" y="317"/>
                      </a:lnTo>
                      <a:lnTo>
                        <a:pt x="609" y="304"/>
                      </a:lnTo>
                      <a:lnTo>
                        <a:pt x="542" y="304"/>
                      </a:lnTo>
                      <a:lnTo>
                        <a:pt x="578" y="260"/>
                      </a:lnTo>
                      <a:lnTo>
                        <a:pt x="578" y="242"/>
                      </a:lnTo>
                      <a:lnTo>
                        <a:pt x="546" y="211"/>
                      </a:lnTo>
                      <a:lnTo>
                        <a:pt x="546" y="163"/>
                      </a:lnTo>
                      <a:lnTo>
                        <a:pt x="502" y="211"/>
                      </a:lnTo>
                      <a:lnTo>
                        <a:pt x="502" y="304"/>
                      </a:lnTo>
                      <a:lnTo>
                        <a:pt x="449" y="304"/>
                      </a:lnTo>
                      <a:lnTo>
                        <a:pt x="383" y="370"/>
                      </a:lnTo>
                      <a:lnTo>
                        <a:pt x="357" y="370"/>
                      </a:lnTo>
                      <a:lnTo>
                        <a:pt x="321" y="414"/>
                      </a:lnTo>
                      <a:lnTo>
                        <a:pt x="189" y="414"/>
                      </a:lnTo>
                      <a:lnTo>
                        <a:pt x="233" y="477"/>
                      </a:lnTo>
                      <a:lnTo>
                        <a:pt x="233" y="574"/>
                      </a:lnTo>
                      <a:lnTo>
                        <a:pt x="189" y="631"/>
                      </a:lnTo>
                      <a:lnTo>
                        <a:pt x="136" y="574"/>
                      </a:lnTo>
                      <a:lnTo>
                        <a:pt x="35" y="574"/>
                      </a:lnTo>
                      <a:lnTo>
                        <a:pt x="35" y="644"/>
                      </a:lnTo>
                      <a:lnTo>
                        <a:pt x="0" y="688"/>
                      </a:lnTo>
                      <a:lnTo>
                        <a:pt x="0" y="781"/>
                      </a:lnTo>
                      <a:lnTo>
                        <a:pt x="66" y="856"/>
                      </a:lnTo>
                      <a:lnTo>
                        <a:pt x="163" y="856"/>
                      </a:lnTo>
                      <a:lnTo>
                        <a:pt x="313" y="675"/>
                      </a:lnTo>
                      <a:lnTo>
                        <a:pt x="445" y="675"/>
                      </a:lnTo>
                      <a:lnTo>
                        <a:pt x="463" y="640"/>
                      </a:lnTo>
                      <a:lnTo>
                        <a:pt x="493" y="675"/>
                      </a:lnTo>
                      <a:lnTo>
                        <a:pt x="489" y="710"/>
                      </a:lnTo>
                      <a:lnTo>
                        <a:pt x="613" y="834"/>
                      </a:lnTo>
                      <a:lnTo>
                        <a:pt x="613" y="887"/>
                      </a:lnTo>
                      <a:lnTo>
                        <a:pt x="640" y="865"/>
                      </a:lnTo>
                      <a:lnTo>
                        <a:pt x="627" y="834"/>
                      </a:lnTo>
                      <a:lnTo>
                        <a:pt x="640" y="816"/>
                      </a:lnTo>
                      <a:lnTo>
                        <a:pt x="662" y="834"/>
                      </a:lnTo>
                      <a:lnTo>
                        <a:pt x="671" y="830"/>
                      </a:lnTo>
                      <a:lnTo>
                        <a:pt x="542" y="671"/>
                      </a:lnTo>
                      <a:lnTo>
                        <a:pt x="542" y="613"/>
                      </a:lnTo>
                      <a:lnTo>
                        <a:pt x="578" y="613"/>
                      </a:lnTo>
                      <a:lnTo>
                        <a:pt x="578" y="644"/>
                      </a:lnTo>
                      <a:lnTo>
                        <a:pt x="706" y="785"/>
                      </a:lnTo>
                      <a:lnTo>
                        <a:pt x="706" y="830"/>
                      </a:lnTo>
                      <a:lnTo>
                        <a:pt x="759" y="891"/>
                      </a:lnTo>
                      <a:lnTo>
                        <a:pt x="746" y="904"/>
                      </a:lnTo>
                      <a:lnTo>
                        <a:pt x="785" y="949"/>
                      </a:lnTo>
                      <a:lnTo>
                        <a:pt x="843" y="882"/>
                      </a:lnTo>
                      <a:lnTo>
                        <a:pt x="807" y="843"/>
                      </a:lnTo>
                      <a:lnTo>
                        <a:pt x="843" y="803"/>
                      </a:lnTo>
                      <a:lnTo>
                        <a:pt x="891" y="803"/>
                      </a:lnTo>
                      <a:lnTo>
                        <a:pt x="913" y="781"/>
                      </a:lnTo>
                      <a:lnTo>
                        <a:pt x="944" y="781"/>
                      </a:lnTo>
                      <a:lnTo>
                        <a:pt x="904" y="724"/>
                      </a:lnTo>
                      <a:lnTo>
                        <a:pt x="927" y="697"/>
                      </a:lnTo>
                      <a:lnTo>
                        <a:pt x="927" y="605"/>
                      </a:lnTo>
                      <a:lnTo>
                        <a:pt x="966" y="556"/>
                      </a:lnTo>
                      <a:lnTo>
                        <a:pt x="984" y="574"/>
                      </a:lnTo>
                      <a:lnTo>
                        <a:pt x="1024" y="574"/>
                      </a:lnTo>
                      <a:lnTo>
                        <a:pt x="1006" y="600"/>
                      </a:lnTo>
                      <a:lnTo>
                        <a:pt x="1041" y="640"/>
                      </a:lnTo>
                      <a:lnTo>
                        <a:pt x="1063" y="605"/>
                      </a:lnTo>
                      <a:lnTo>
                        <a:pt x="1090" y="605"/>
                      </a:lnTo>
                      <a:lnTo>
                        <a:pt x="1090" y="591"/>
                      </a:lnTo>
                      <a:lnTo>
                        <a:pt x="1076" y="591"/>
                      </a:lnTo>
                      <a:lnTo>
                        <a:pt x="1054" y="574"/>
                      </a:lnTo>
                      <a:lnTo>
                        <a:pt x="1112" y="503"/>
                      </a:lnTo>
                      <a:lnTo>
                        <a:pt x="1112" y="605"/>
                      </a:lnTo>
                      <a:lnTo>
                        <a:pt x="1125" y="605"/>
                      </a:lnTo>
                      <a:lnTo>
                        <a:pt x="1125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7640" cy="1219680"/>
                </a:xfrm>
                <a:custGeom>
                  <a:avLst/>
                  <a:gdLst/>
                  <a:ahLst/>
                  <a:rect l="0" t="0" r="r" b="b"/>
                  <a:pathLst>
                    <a:path w="4799" h="3388">
                      <a:moveTo>
                        <a:pt x="0" y="997"/>
                      </a:moveTo>
                      <a:lnTo>
                        <a:pt x="141" y="891"/>
                      </a:lnTo>
                      <a:lnTo>
                        <a:pt x="273" y="687"/>
                      </a:lnTo>
                      <a:lnTo>
                        <a:pt x="436" y="590"/>
                      </a:lnTo>
                      <a:lnTo>
                        <a:pt x="604" y="705"/>
                      </a:lnTo>
                      <a:lnTo>
                        <a:pt x="626" y="798"/>
                      </a:lnTo>
                      <a:lnTo>
                        <a:pt x="586" y="798"/>
                      </a:lnTo>
                      <a:lnTo>
                        <a:pt x="520" y="789"/>
                      </a:lnTo>
                      <a:lnTo>
                        <a:pt x="604" y="891"/>
                      </a:lnTo>
                      <a:lnTo>
                        <a:pt x="952" y="758"/>
                      </a:lnTo>
                      <a:lnTo>
                        <a:pt x="908" y="657"/>
                      </a:lnTo>
                      <a:lnTo>
                        <a:pt x="1058" y="485"/>
                      </a:lnTo>
                      <a:lnTo>
                        <a:pt x="1155" y="489"/>
                      </a:lnTo>
                      <a:lnTo>
                        <a:pt x="1062" y="546"/>
                      </a:lnTo>
                      <a:lnTo>
                        <a:pt x="983" y="674"/>
                      </a:lnTo>
                      <a:lnTo>
                        <a:pt x="983" y="758"/>
                      </a:lnTo>
                      <a:lnTo>
                        <a:pt x="1124" y="852"/>
                      </a:lnTo>
                      <a:lnTo>
                        <a:pt x="1328" y="586"/>
                      </a:lnTo>
                      <a:lnTo>
                        <a:pt x="2033" y="277"/>
                      </a:lnTo>
                      <a:lnTo>
                        <a:pt x="2029" y="101"/>
                      </a:lnTo>
                      <a:lnTo>
                        <a:pt x="2351" y="35"/>
                      </a:lnTo>
                      <a:lnTo>
                        <a:pt x="2532" y="127"/>
                      </a:lnTo>
                      <a:lnTo>
                        <a:pt x="2959" y="0"/>
                      </a:lnTo>
                      <a:lnTo>
                        <a:pt x="3092" y="66"/>
                      </a:lnTo>
                      <a:lnTo>
                        <a:pt x="3378" y="374"/>
                      </a:lnTo>
                      <a:lnTo>
                        <a:pt x="3706" y="313"/>
                      </a:lnTo>
                      <a:lnTo>
                        <a:pt x="3909" y="423"/>
                      </a:lnTo>
                      <a:lnTo>
                        <a:pt x="4416" y="401"/>
                      </a:lnTo>
                      <a:lnTo>
                        <a:pt x="4799" y="520"/>
                      </a:lnTo>
                      <a:lnTo>
                        <a:pt x="4764" y="687"/>
                      </a:lnTo>
                      <a:lnTo>
                        <a:pt x="4438" y="798"/>
                      </a:lnTo>
                      <a:lnTo>
                        <a:pt x="4495" y="909"/>
                      </a:lnTo>
                      <a:lnTo>
                        <a:pt x="4354" y="971"/>
                      </a:lnTo>
                      <a:lnTo>
                        <a:pt x="4345" y="1191"/>
                      </a:lnTo>
                      <a:lnTo>
                        <a:pt x="4222" y="1341"/>
                      </a:lnTo>
                      <a:lnTo>
                        <a:pt x="4169" y="1204"/>
                      </a:lnTo>
                      <a:lnTo>
                        <a:pt x="4239" y="1076"/>
                      </a:lnTo>
                      <a:lnTo>
                        <a:pt x="4226" y="811"/>
                      </a:lnTo>
                      <a:lnTo>
                        <a:pt x="4098" y="949"/>
                      </a:lnTo>
                      <a:lnTo>
                        <a:pt x="3997" y="1024"/>
                      </a:lnTo>
                      <a:lnTo>
                        <a:pt x="3900" y="904"/>
                      </a:lnTo>
                      <a:lnTo>
                        <a:pt x="3829" y="1204"/>
                      </a:lnTo>
                      <a:lnTo>
                        <a:pt x="3904" y="1204"/>
                      </a:lnTo>
                      <a:lnTo>
                        <a:pt x="3886" y="1403"/>
                      </a:lnTo>
                      <a:lnTo>
                        <a:pt x="3798" y="1614"/>
                      </a:lnTo>
                      <a:lnTo>
                        <a:pt x="3692" y="1698"/>
                      </a:lnTo>
                      <a:lnTo>
                        <a:pt x="3781" y="1839"/>
                      </a:lnTo>
                      <a:lnTo>
                        <a:pt x="3723" y="1936"/>
                      </a:lnTo>
                      <a:lnTo>
                        <a:pt x="3701" y="1853"/>
                      </a:lnTo>
                      <a:lnTo>
                        <a:pt x="3701" y="1822"/>
                      </a:lnTo>
                      <a:lnTo>
                        <a:pt x="3631" y="1773"/>
                      </a:lnTo>
                      <a:lnTo>
                        <a:pt x="3515" y="1835"/>
                      </a:lnTo>
                      <a:lnTo>
                        <a:pt x="3617" y="2069"/>
                      </a:lnTo>
                      <a:lnTo>
                        <a:pt x="3653" y="2188"/>
                      </a:lnTo>
                      <a:lnTo>
                        <a:pt x="3533" y="2510"/>
                      </a:lnTo>
                      <a:lnTo>
                        <a:pt x="3312" y="2599"/>
                      </a:lnTo>
                      <a:lnTo>
                        <a:pt x="3131" y="2581"/>
                      </a:lnTo>
                      <a:lnTo>
                        <a:pt x="3220" y="2713"/>
                      </a:lnTo>
                      <a:lnTo>
                        <a:pt x="3228" y="2899"/>
                      </a:lnTo>
                      <a:lnTo>
                        <a:pt x="3101" y="3115"/>
                      </a:lnTo>
                      <a:lnTo>
                        <a:pt x="2955" y="2996"/>
                      </a:lnTo>
                      <a:lnTo>
                        <a:pt x="2933" y="3124"/>
                      </a:lnTo>
                      <a:lnTo>
                        <a:pt x="3043" y="3229"/>
                      </a:lnTo>
                      <a:lnTo>
                        <a:pt x="3136" y="3388"/>
                      </a:lnTo>
                      <a:lnTo>
                        <a:pt x="2981" y="3296"/>
                      </a:lnTo>
                      <a:lnTo>
                        <a:pt x="2796" y="2762"/>
                      </a:lnTo>
                      <a:lnTo>
                        <a:pt x="2571" y="2616"/>
                      </a:lnTo>
                      <a:lnTo>
                        <a:pt x="2404" y="2630"/>
                      </a:lnTo>
                      <a:lnTo>
                        <a:pt x="2192" y="2934"/>
                      </a:lnTo>
                      <a:lnTo>
                        <a:pt x="2219" y="3040"/>
                      </a:lnTo>
                      <a:lnTo>
                        <a:pt x="2148" y="3256"/>
                      </a:lnTo>
                      <a:lnTo>
                        <a:pt x="2077" y="3256"/>
                      </a:lnTo>
                      <a:lnTo>
                        <a:pt x="1835" y="2806"/>
                      </a:lnTo>
                      <a:lnTo>
                        <a:pt x="1835" y="2612"/>
                      </a:lnTo>
                      <a:lnTo>
                        <a:pt x="1782" y="2683"/>
                      </a:lnTo>
                      <a:lnTo>
                        <a:pt x="1645" y="2678"/>
                      </a:lnTo>
                      <a:lnTo>
                        <a:pt x="1698" y="2559"/>
                      </a:lnTo>
                      <a:lnTo>
                        <a:pt x="1482" y="2404"/>
                      </a:lnTo>
                      <a:lnTo>
                        <a:pt x="1213" y="2404"/>
                      </a:lnTo>
                      <a:lnTo>
                        <a:pt x="983" y="2249"/>
                      </a:lnTo>
                      <a:lnTo>
                        <a:pt x="970" y="2404"/>
                      </a:lnTo>
                      <a:lnTo>
                        <a:pt x="1159" y="2546"/>
                      </a:lnTo>
                      <a:lnTo>
                        <a:pt x="1226" y="2542"/>
                      </a:lnTo>
                      <a:lnTo>
                        <a:pt x="1031" y="2736"/>
                      </a:lnTo>
                      <a:lnTo>
                        <a:pt x="837" y="2780"/>
                      </a:lnTo>
                      <a:lnTo>
                        <a:pt x="837" y="2669"/>
                      </a:lnTo>
                      <a:lnTo>
                        <a:pt x="560" y="2285"/>
                      </a:lnTo>
                      <a:lnTo>
                        <a:pt x="524" y="2183"/>
                      </a:lnTo>
                      <a:lnTo>
                        <a:pt x="674" y="2060"/>
                      </a:lnTo>
                      <a:lnTo>
                        <a:pt x="657" y="1906"/>
                      </a:lnTo>
                      <a:lnTo>
                        <a:pt x="657" y="1734"/>
                      </a:lnTo>
                      <a:lnTo>
                        <a:pt x="732" y="1698"/>
                      </a:lnTo>
                      <a:lnTo>
                        <a:pt x="657" y="1614"/>
                      </a:lnTo>
                      <a:lnTo>
                        <a:pt x="657" y="997"/>
                      </a:lnTo>
                      <a:lnTo>
                        <a:pt x="268" y="997"/>
                      </a:lnTo>
                      <a:lnTo>
                        <a:pt x="379" y="852"/>
                      </a:lnTo>
                      <a:lnTo>
                        <a:pt x="370" y="798"/>
                      </a:lnTo>
                      <a:lnTo>
                        <a:pt x="242" y="927"/>
                      </a:lnTo>
                      <a:lnTo>
                        <a:pt x="198" y="997"/>
                      </a:lnTo>
                      <a:lnTo>
                        <a:pt x="0" y="9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7960" cy="248040"/>
                </a:xfrm>
                <a:custGeom>
                  <a:avLst/>
                  <a:gdLst/>
                  <a:ahLst/>
                  <a:rect l="0" t="0" r="r" b="b"/>
                  <a:pathLst>
                    <a:path w="411" h="689">
                      <a:moveTo>
                        <a:pt x="278" y="0"/>
                      </a:moveTo>
                      <a:lnTo>
                        <a:pt x="278" y="88"/>
                      </a:lnTo>
                      <a:lnTo>
                        <a:pt x="243" y="145"/>
                      </a:lnTo>
                      <a:lnTo>
                        <a:pt x="252" y="239"/>
                      </a:lnTo>
                      <a:lnTo>
                        <a:pt x="208" y="362"/>
                      </a:lnTo>
                      <a:lnTo>
                        <a:pt x="136" y="477"/>
                      </a:lnTo>
                      <a:lnTo>
                        <a:pt x="30" y="553"/>
                      </a:lnTo>
                      <a:lnTo>
                        <a:pt x="0" y="681"/>
                      </a:lnTo>
                      <a:lnTo>
                        <a:pt x="44" y="689"/>
                      </a:lnTo>
                      <a:lnTo>
                        <a:pt x="44" y="570"/>
                      </a:lnTo>
                      <a:lnTo>
                        <a:pt x="194" y="562"/>
                      </a:lnTo>
                      <a:lnTo>
                        <a:pt x="305" y="481"/>
                      </a:lnTo>
                      <a:lnTo>
                        <a:pt x="305" y="318"/>
                      </a:lnTo>
                      <a:lnTo>
                        <a:pt x="340" y="256"/>
                      </a:lnTo>
                      <a:lnTo>
                        <a:pt x="283" y="149"/>
                      </a:lnTo>
                      <a:lnTo>
                        <a:pt x="362" y="119"/>
                      </a:lnTo>
                      <a:lnTo>
                        <a:pt x="411" y="35"/>
                      </a:lnTo>
                      <a:lnTo>
                        <a:pt x="305" y="48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28800" cy="55800"/>
                </a:xfrm>
                <a:custGeom>
                  <a:avLst/>
                  <a:gdLst/>
                  <a:ahLst/>
                  <a:rect l="0" t="0" r="r" b="b"/>
                  <a:pathLst>
                    <a:path w="80" h="155">
                      <a:moveTo>
                        <a:pt x="39" y="0"/>
                      </a:moveTo>
                      <a:lnTo>
                        <a:pt x="0" y="70"/>
                      </a:lnTo>
                      <a:lnTo>
                        <a:pt x="26" y="155"/>
                      </a:lnTo>
                      <a:lnTo>
                        <a:pt x="80" y="9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8120" cy="147960"/>
                </a:xfrm>
                <a:custGeom>
                  <a:avLst/>
                  <a:gdLst/>
                  <a:ahLst/>
                  <a:rect l="0" t="0" r="r" b="b"/>
                  <a:pathLst>
                    <a:path w="967" h="411">
                      <a:moveTo>
                        <a:pt x="0" y="0"/>
                      </a:moveTo>
                      <a:lnTo>
                        <a:pt x="145" y="30"/>
                      </a:lnTo>
                      <a:lnTo>
                        <a:pt x="362" y="180"/>
                      </a:lnTo>
                      <a:lnTo>
                        <a:pt x="331" y="265"/>
                      </a:lnTo>
                      <a:lnTo>
                        <a:pt x="508" y="340"/>
                      </a:lnTo>
                      <a:lnTo>
                        <a:pt x="967" y="340"/>
                      </a:lnTo>
                      <a:lnTo>
                        <a:pt x="468" y="411"/>
                      </a:lnTo>
                      <a:lnTo>
                        <a:pt x="331" y="265"/>
                      </a:lnTo>
                      <a:lnTo>
                        <a:pt x="202" y="2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3320" cy="349560"/>
                </a:xfrm>
                <a:custGeom>
                  <a:avLst/>
                  <a:gdLst/>
                  <a:ahLst/>
                  <a:rect l="0" t="0" r="r" b="b"/>
                  <a:pathLst>
                    <a:path w="1037" h="971">
                      <a:moveTo>
                        <a:pt x="865" y="949"/>
                      </a:moveTo>
                      <a:lnTo>
                        <a:pt x="838" y="953"/>
                      </a:lnTo>
                      <a:lnTo>
                        <a:pt x="816" y="971"/>
                      </a:lnTo>
                      <a:lnTo>
                        <a:pt x="790" y="935"/>
                      </a:lnTo>
                      <a:lnTo>
                        <a:pt x="697" y="891"/>
                      </a:lnTo>
                      <a:lnTo>
                        <a:pt x="680" y="825"/>
                      </a:lnTo>
                      <a:lnTo>
                        <a:pt x="649" y="803"/>
                      </a:lnTo>
                      <a:lnTo>
                        <a:pt x="574" y="803"/>
                      </a:lnTo>
                      <a:lnTo>
                        <a:pt x="574" y="750"/>
                      </a:lnTo>
                      <a:lnTo>
                        <a:pt x="547" y="737"/>
                      </a:lnTo>
                      <a:lnTo>
                        <a:pt x="543" y="693"/>
                      </a:lnTo>
                      <a:lnTo>
                        <a:pt x="485" y="684"/>
                      </a:lnTo>
                      <a:lnTo>
                        <a:pt x="432" y="671"/>
                      </a:lnTo>
                      <a:lnTo>
                        <a:pt x="383" y="684"/>
                      </a:lnTo>
                      <a:lnTo>
                        <a:pt x="383" y="693"/>
                      </a:lnTo>
                      <a:lnTo>
                        <a:pt x="273" y="728"/>
                      </a:lnTo>
                      <a:lnTo>
                        <a:pt x="273" y="746"/>
                      </a:lnTo>
                      <a:lnTo>
                        <a:pt x="176" y="746"/>
                      </a:lnTo>
                      <a:lnTo>
                        <a:pt x="123" y="777"/>
                      </a:lnTo>
                      <a:lnTo>
                        <a:pt x="66" y="746"/>
                      </a:lnTo>
                      <a:lnTo>
                        <a:pt x="61" y="737"/>
                      </a:lnTo>
                      <a:lnTo>
                        <a:pt x="61" y="671"/>
                      </a:lnTo>
                      <a:lnTo>
                        <a:pt x="44" y="613"/>
                      </a:lnTo>
                      <a:lnTo>
                        <a:pt x="22" y="561"/>
                      </a:lnTo>
                      <a:lnTo>
                        <a:pt x="35" y="521"/>
                      </a:lnTo>
                      <a:lnTo>
                        <a:pt x="13" y="503"/>
                      </a:lnTo>
                      <a:lnTo>
                        <a:pt x="0" y="410"/>
                      </a:lnTo>
                      <a:lnTo>
                        <a:pt x="13" y="348"/>
                      </a:lnTo>
                      <a:lnTo>
                        <a:pt x="70" y="299"/>
                      </a:lnTo>
                      <a:lnTo>
                        <a:pt x="194" y="264"/>
                      </a:lnTo>
                      <a:lnTo>
                        <a:pt x="224" y="224"/>
                      </a:lnTo>
                      <a:lnTo>
                        <a:pt x="211" y="180"/>
                      </a:lnTo>
                      <a:lnTo>
                        <a:pt x="242" y="167"/>
                      </a:lnTo>
                      <a:lnTo>
                        <a:pt x="251" y="189"/>
                      </a:lnTo>
                      <a:lnTo>
                        <a:pt x="264" y="154"/>
                      </a:lnTo>
                      <a:lnTo>
                        <a:pt x="339" y="97"/>
                      </a:lnTo>
                      <a:lnTo>
                        <a:pt x="383" y="123"/>
                      </a:lnTo>
                      <a:lnTo>
                        <a:pt x="432" y="110"/>
                      </a:lnTo>
                      <a:lnTo>
                        <a:pt x="449" y="57"/>
                      </a:lnTo>
                      <a:lnTo>
                        <a:pt x="498" y="44"/>
                      </a:lnTo>
                      <a:lnTo>
                        <a:pt x="485" y="8"/>
                      </a:lnTo>
                      <a:lnTo>
                        <a:pt x="552" y="35"/>
                      </a:lnTo>
                      <a:lnTo>
                        <a:pt x="609" y="22"/>
                      </a:lnTo>
                      <a:lnTo>
                        <a:pt x="640" y="149"/>
                      </a:lnTo>
                      <a:lnTo>
                        <a:pt x="680" y="189"/>
                      </a:lnTo>
                      <a:lnTo>
                        <a:pt x="719" y="189"/>
                      </a:lnTo>
                      <a:lnTo>
                        <a:pt x="737" y="110"/>
                      </a:lnTo>
                      <a:lnTo>
                        <a:pt x="728" y="70"/>
                      </a:lnTo>
                      <a:lnTo>
                        <a:pt x="737" y="8"/>
                      </a:lnTo>
                      <a:lnTo>
                        <a:pt x="759" y="0"/>
                      </a:lnTo>
                      <a:lnTo>
                        <a:pt x="790" y="79"/>
                      </a:lnTo>
                      <a:lnTo>
                        <a:pt x="816" y="97"/>
                      </a:lnTo>
                      <a:lnTo>
                        <a:pt x="834" y="167"/>
                      </a:lnTo>
                      <a:lnTo>
                        <a:pt x="865" y="264"/>
                      </a:lnTo>
                      <a:lnTo>
                        <a:pt x="909" y="291"/>
                      </a:lnTo>
                      <a:lnTo>
                        <a:pt x="966" y="366"/>
                      </a:lnTo>
                      <a:lnTo>
                        <a:pt x="975" y="401"/>
                      </a:lnTo>
                      <a:lnTo>
                        <a:pt x="1024" y="445"/>
                      </a:lnTo>
                      <a:lnTo>
                        <a:pt x="1037" y="525"/>
                      </a:lnTo>
                      <a:lnTo>
                        <a:pt x="1037" y="587"/>
                      </a:lnTo>
                      <a:lnTo>
                        <a:pt x="1024" y="684"/>
                      </a:lnTo>
                      <a:lnTo>
                        <a:pt x="975" y="746"/>
                      </a:lnTo>
                      <a:lnTo>
                        <a:pt x="957" y="825"/>
                      </a:lnTo>
                      <a:lnTo>
                        <a:pt x="957" y="891"/>
                      </a:lnTo>
                      <a:lnTo>
                        <a:pt x="909" y="904"/>
                      </a:lnTo>
                      <a:lnTo>
                        <a:pt x="865" y="9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7360" cy="41760"/>
                </a:xfrm>
                <a:custGeom>
                  <a:avLst/>
                  <a:gdLst/>
                  <a:ahLst/>
                  <a:rect l="0" t="0" r="r" b="b"/>
                  <a:pathLst>
                    <a:path w="76" h="116">
                      <a:moveTo>
                        <a:pt x="40" y="103"/>
                      </a:moveTo>
                      <a:lnTo>
                        <a:pt x="13" y="84"/>
                      </a:lnTo>
                      <a:lnTo>
                        <a:pt x="13" y="67"/>
                      </a:lnTo>
                      <a:lnTo>
                        <a:pt x="13" y="49"/>
                      </a:lnTo>
                      <a:lnTo>
                        <a:pt x="8" y="31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17"/>
                      </a:lnTo>
                      <a:lnTo>
                        <a:pt x="53" y="13"/>
                      </a:lnTo>
                      <a:lnTo>
                        <a:pt x="59" y="13"/>
                      </a:lnTo>
                      <a:lnTo>
                        <a:pt x="76" y="0"/>
                      </a:lnTo>
                      <a:lnTo>
                        <a:pt x="76" y="49"/>
                      </a:lnTo>
                      <a:lnTo>
                        <a:pt x="68" y="67"/>
                      </a:lnTo>
                      <a:lnTo>
                        <a:pt x="59" y="84"/>
                      </a:lnTo>
                      <a:lnTo>
                        <a:pt x="59" y="99"/>
                      </a:lnTo>
                      <a:lnTo>
                        <a:pt x="53" y="103"/>
                      </a:lnTo>
                      <a:lnTo>
                        <a:pt x="53" y="116"/>
                      </a:lnTo>
                      <a:lnTo>
                        <a:pt x="40" y="1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39960" cy="167040"/>
                </a:xfrm>
                <a:custGeom>
                  <a:avLst/>
                  <a:gdLst/>
                  <a:ahLst/>
                  <a:rect l="0" t="0" r="r" b="b"/>
                  <a:pathLst>
                    <a:path w="111" h="464">
                      <a:moveTo>
                        <a:pt x="13" y="163"/>
                      </a:moveTo>
                      <a:lnTo>
                        <a:pt x="58" y="123"/>
                      </a:lnTo>
                      <a:lnTo>
                        <a:pt x="89" y="0"/>
                      </a:lnTo>
                      <a:lnTo>
                        <a:pt x="111" y="185"/>
                      </a:lnTo>
                      <a:lnTo>
                        <a:pt x="75" y="415"/>
                      </a:lnTo>
                      <a:lnTo>
                        <a:pt x="0" y="464"/>
                      </a:lnTo>
                      <a:lnTo>
                        <a:pt x="0" y="353"/>
                      </a:lnTo>
                      <a:lnTo>
                        <a:pt x="22" y="283"/>
                      </a:lnTo>
                      <a:lnTo>
                        <a:pt x="13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57240"/>
            <a:ext cx="91425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320" y="220968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tÁ¿¤H : §õº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28/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280" y="285840"/>
            <a:ext cx="898992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990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ªº¥X²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2666880"/>
            <a:ext cx="1295280" cy="2743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276720" y="2971800"/>
            <a:ext cx="26668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962520"/>
            <a:ext cx="289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962520"/>
            <a:ext cx="274320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2362320"/>
            <a:ext cx="28954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4572000"/>
            <a:ext cx="22096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965240" y="358452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Ø¿ýºÞ²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ªA°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851440" y="259380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 Client/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61280" y="36608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04080" y="4803840"/>
            <a:ext cx="229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 Client/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676520"/>
            <a:ext cx="3505320" cy="480060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590920"/>
            <a:ext cx="1371600" cy="60948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267012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657600"/>
            <a:ext cx="1371600" cy="60948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2760" y="373680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4724280"/>
            <a:ext cx="1371600" cy="60948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2760" y="48038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638680"/>
            <a:ext cx="1371600" cy="60948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89080" y="57182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89548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9625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600200" y="5105520"/>
            <a:ext cx="38088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57240"/>
            <a:ext cx="8915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32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Client/Server¬[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Delphi¶}µoClient/ServerªºÀ³¥Î¨t²Î¥]¬A¤F¤T­Ó³¡¥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§Ú­Ì¨Ï¥ÎDelphi¶}µoClient/ServerÀ³¥Îµ{¦¡ªº®É­Ô¥²¶·¹ï©óDelphiªº¨C¤@­Ó¤l³¡¥÷¦³¹ý©³ªºÁA¸Ñ¤~¯à°÷¼¶¼g¥X¦³®Ä²vªºClient/ServerÀ³¥Îµ{¦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¤T­ÓClient/Sever¤T­Ó³¡¥÷¦U¦³¤£¦Pªº¯S©Ê¡A³o¤T­Ó³¡¥÷¬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¨Ï¥ÎDelphi¶}µoªº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¤¶¡­t³d«e«áºÝ¨ó½ÕªºBDE/IDAPI¥H¤ÎSQL LinksÅX°Ê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áºÝªºSQL Server¸ê®Æ®w¨t²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133200"/>
            <a:ext cx="91425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28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Client/Server¬[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1720" y="2106720"/>
            <a:ext cx="1677960" cy="1370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«È¤á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1720" y="3935520"/>
            <a:ext cx="1677960" cy="1370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«È¤á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81280" y="3021120"/>
            <a:ext cx="1905120" cy="48276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BDE/ID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085160" y="2563920"/>
            <a:ext cx="1677960" cy="137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666880"/>
            <a:ext cx="129564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3352680"/>
            <a:ext cx="13716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32767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448240" y="4379760"/>
            <a:ext cx="1736640" cy="15724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­ì¥ÍÅX°Êµ{¦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D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ÅX°Êµ{¦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280" y="0"/>
            <a:ext cx="898992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9680" y="1141560"/>
            <a:ext cx="900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57240"/>
            <a:ext cx="89917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320" y="685800"/>
            <a:ext cx="90662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ªº³]©w¹ï©óDelphi«È¤áºÝªºÀ³¥Îµ{¦¡¦³µÛ«D±`­«­nªº¼vÅT¡A¥¿½Tªº³]©wBDE/IDAPIªº­È¤~¯à°÷Åý§AªºÀ³¥Îµ{¦¡°õ¦æªº¦³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BDE/IDAPIªº³]©w¤¤¦³¼Æ­ÓÄæ¦ìªº³]©w·|©MÀ³¥Îµ{¦¡°õ¦æªº¦æ¬°¦³Ãö«Y¡A¦Ó¦³¤@¨Ç«h©MÀ³¥Îµ{¦¡°õ¦æªº®Ä²v¦³Ãö«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ý¬OBorland¨Ã¨S¦³§¹¾ãªº¤å¥ó»¡©ú¦p¦ó³]©w©Ò¦³BDE/IDAPIªº³]©w­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20952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14400"/>
            <a:ext cx="906768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BDE/IDAPI¤¤¦³¼Æ­Ó³]©w¬O§Ú­Ì¥²¶·ÁA¸Ñª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PASS THROUGH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CHEMA 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MA CACHE 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S PACKET SIZE(MS SQL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6320" y="57240"/>
            <a:ext cx="9066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320" y="91440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QRY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76320" y="57240"/>
            <a:ext cx="9066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320" y="91440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PASS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AUTO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NOAUTO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AutoCommit ? v.s. Shared NoAuto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76320" y="57240"/>
            <a:ext cx="9066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320" y="91440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MA CACHE 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CACHE 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o¤G­Ó³]©w¬O¬°¤F¼W¥[BDE/IDAPI¨Ï¥ÎTTABLE¤¸¥ó¶}±Ò«áºÝ¸ê®Æ®wªº³t«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®É¨Ï¥Î³o¤G­Ó³]©w¥i¥H¼W§Ö¶}±Ò¸ê®Æ®wªí®æªº³t«×¹F¼Æ­¿¤§¦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ý¬O§A¥²¶·ª`·N¨Ï¥Î³o­Ó³]©w§Aªº¸ê®Æ®wªí®æªººõ­n¥²¶·¬O¦b¤£ÅÜªºª¬ºA¤§¤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838080"/>
            <a:ext cx="906768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¤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ã¥ÜBDE/IDAPIªºTDS Packet Size¹ï©óMS SQL Server°õ¦æ®Ä²vªº¼v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320" y="57240"/>
            <a:ext cx="89917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320" y="106668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Client/Server¬[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A¸ÑTrans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¿½Tªº¨Ï¥Î¸ê®Æ¶°¤¸¥ó(TTable¡ATQuery©MTStoredPr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«Ø¥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ø·~ª«¥ó(business o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²½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838080"/>
            <a:ext cx="906768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ªº³]©w¹ï©óClient/Server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¤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ã¥ÜBDE/IDAPIªºTDS Packet Size¹ï©óMS SQL Server°õ¦æ®Ä²vªº¼v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Ú­Ì¥i¥H¬Ý¨ì¥¿½Tªº³]©wBDE/IDAPI¤¤ªºTDS Packet Size·|¹ïMS SQL Serverªº°õ¦æ®Ä²v¦³20%~25%ªº¼v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¹¥~MS SQL Server¹ï©ó¬d¸ß¤ä´©asynchronous query¦ÓBDE/IDAPI¤]¤ä´©asynchronous query¡C½Ðª`·NBDE/IDAPI¤¤DRIVER FLAGS¤¤ªº³]©w­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52280" y="285840"/>
            <a:ext cx="89899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2280" y="990720"/>
            <a:ext cx="89899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sª©¥»ªºBDE/IDAPI¹ï©óDelphiÀ³¥Îµ{¦¡ªº¼v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12 V.S. BDE/IDAPI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5­×¥¿¤F³\¦h3.12¤¤ªº¯äÂÎ¡C¨Ò¦p¹ï©óMS SQL SERVER DATETIMEÄæ¦ìªº¯äÂÎ¡A¹ï©óORACLE PARTIAL LOCATEªº¿ù»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ó­«­nªº¬OBDE/IDAPI 3.5¹ï©óDelphiÀ³¥Îµ{¦¡ªº°õ¦æ³t«×°µ¤F¤j´T«×ªº¼W¥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ý§Ú­Ì¬Ý¤@¨Ç½d¨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320" y="91440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s¼W¸ê®Æªº´ú¸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12 V.S. BDE/IDAPI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320" y="91440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}±Ò¸ê®Æ®wªí®æªº´ú¸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12 V.S. BDE/IDAPI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80" y="304920"/>
            <a:ext cx="9123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0" y="28584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14300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52¸Ñ¨Mªº¨Æ±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¹ï©ó©Ò¦³ªº¸ê®Æ®w¦s¨ú³t«×³£¦³´£ª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¹ï©óMS SQL Server 6.0ªº¦s¨ú³t«× ªº§ïµ½¯S§O©úÅ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¸Ñ¨M¤F¹ï©óOracle¸ê®Æ®wµLªk°µPartial Locateªº¯äÂ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¸Ñ¨M¤F¹ï©óSQL AnyWhere¸ê®Æ®w¦s¨úªº¯äÂ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¹ï©óBDE Configuration¤¤ªº³]©wºX¸¹¦³¸û¬°¸Ô²Óªº»¡©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´µM¨S¦³¸Ñ¨Mªº°ÝÃ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BDE/IDAPI 4.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6320" y="285840"/>
            <a:ext cx="89154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1430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 3.5²×©ó¦^´_¤F¥«­±¤W³Ì§Ö³tªº¤¤¤¶¸ê®Æ®w­ì¥ÍÅX°Êµ{¦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ó´Îªº¬OBorland©ú¦~±À¥XDelphi97ªº®É­Ô¤]±N·|§ó·sBDE/IDAPI¨ì4.0¡A¹ï©ó³t«×¦A°µ¤@¦¸ªº´£ª@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ªG§A²{¦bÁÙ¨S¦³§ó·s§AªºBDE/IDAPIªº¸Ü¡A´N½Ð§A»°§Ö¨ú±o³Ì·sªºBDE/IDAPI©MSQL LINKS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0" y="57240"/>
            <a:ext cx="91425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2280" y="914400"/>
            <a:ext cx="89899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A¸ÑTrans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ion Model±±¨î¤FDelphiÀ³¥Îµ{¦¡°õ¦æªº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ion Model±±¨î¤F¸ê®Æ³B²zªº¦æ¬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ion Model±±¨î¤F¦h¤H¦h¤uªº±¡§Î¤UÀ³¥Îµ{¦¡³B²z¸ê®Æªº¦æ¬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¥i¥HÅý§Ú­Ì±±¨îÀ³¥Îµ{¦¡Transaction Modelªº¦æ¬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¼ËªºDelphi¦b±±¨îTransaction Model®É­Ô¬°¤T­Ó³¡¥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eºÝDelphiÀ³¥Îµ{¦¡ªº³]©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¤¶¡BDE/IDAPI³]©wªº±±¨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H¤Î«áºÝ SQL Server¯S©Êªº¦æ¬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76320" y="133200"/>
            <a:ext cx="8989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280" y="9144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A¸ÑTrans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DelphiÀ³¥Îµ{¦¡¹ï©ó¸ê®Æ®w³B²zªº³]©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able©MTQuery¤¸¥óªºUpdateModeªº³]©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her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here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hereKey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ý§Ú­Ì¬Ý¤@­Ó½d¨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atabaseªºTransIsolationªº³]©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Read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Dirty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Repeatable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o­Ó¯S©Ê­È±±¨î¤F¦b¦h¤H¦h¤uªºÀô¹Ò¤U¡A¨Ï¥ÎªÌ¬Ý¨ìªº¸ê®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5724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28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756560" y="2182680"/>
            <a:ext cx="1222200" cy="1096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567480" y="3171960"/>
            <a:ext cx="15890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1720" y="3097080"/>
            <a:ext cx="12254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689880" y="414504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96080" y="4343400"/>
            <a:ext cx="838080" cy="533160"/>
            <a:chOff x="7696080" y="4343400"/>
            <a:chExt cx="838080" cy="533160"/>
          </a:xfrm>
        </p:grpSpPr>
        <p:sp>
          <p:nvSpPr>
            <p:cNvPr id="146" name=""/>
            <p:cNvSpPr/>
            <p:nvPr/>
          </p:nvSpPr>
          <p:spPr>
            <a:xfrm>
              <a:off x="7696080" y="441972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472428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96080" y="434340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752480" y="365760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1720" y="4086360"/>
            <a:ext cx="12254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1720" y="2106720"/>
            <a:ext cx="12254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590920"/>
            <a:ext cx="480060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752480" y="3657600"/>
            <a:ext cx="480060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48040" y="4761000"/>
            <a:ext cx="1736640" cy="1919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­ì¥ÍÅX°Êµ{¦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DBC ÅX°Êµ{¦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LE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19240" y="2906640"/>
            <a:ext cx="1222200" cy="1096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5760" y="5305320"/>
            <a:ext cx="1906560" cy="482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Visual d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86000" y="3733920"/>
            <a:ext cx="41911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0" y="285840"/>
            <a:ext cx="91425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28600" y="129528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ý§Ú­Ì¥ð®§¤@¤U¦AÄ~Äò¥R¹q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320" y="133200"/>
            <a:ext cx="8989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2280" y="9144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A¸ÑTrans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¯u¥¿ªºÁA¸ÑDelphi¦b«È¤áºÝ¹ï©ó¸ê®Æªº³B²z©M«áºÝ¸ê®Æ®w¹ï©ó¸ê®Æªº¥i¨£«×¤£¦ý¼vÅTDelphiÀ³¥Îµ{¦¡°õ¦æªº¥¿½T©Ê¡A¤]¼vÅT¤FÀ³¥Îµ{¦¡°õ¦æªº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6320" y="133200"/>
            <a:ext cx="8989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52280" y="9144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A¸ÑTrans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«È¤áºÝªºÂê©w¾÷¨î©M´_ºÝ¸ê®Æ®w¨Ï¥ÎªºÂê©w¾÷¨î¥i¯à¤£¤@¼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¦b«È¤áºÝ¨Ï¥Î¼ÖÆ[ªºÂê©w¾÷¨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áºÝªº¸ê®Æ®w¥i¯à¨Ï¥Î´dÆ[ªºÂê©w¾÷¨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­n¦p¦ó¨ó½Õ«e«áºÝ©Ò¨Ï¥Îªº¤£¦PÂê©w¾÷¨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¦óÅýDelphi©M«áºÝ¸ê®Æ®w¤@¼Ë¨Ï¥Î´dÆ[ªºÂê©w¾÷¨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14400"/>
            <a:ext cx="914256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¿½Tªº¨Ï¥Î¸ê®Æ¶°¤¸¥ó(TTable¡ATQuery©MTStoredPr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Delphi¤¤¦³¤T­Ó¤£¦Pªº¸ê®Æ¶°¤¸¥ó¡A§Ú­Ì¦b¤°»ò®É­ÔÀ³¸Ó¨Ï¥Î¨º¤@­Ó¤¸¥ó©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Æ¹ê¤W¤£¦Pªº¸ê®Æ¶°¤¸¥ó¦b¶}µoDelphiÀ³¥Îµ{¦¡ªº®É­Ô¦³¤£¦Pªº¯S©Ê¡A¦Ó¥B¤£¦Pªº¸ê®Æ¶°¤¸¥ó¦b³\¦h±¡§Î¤U°õ¦æªº³t«×¤]¤£¤@¼Ë¡A©Ò¥H§Ú­ÌÀ³¸Ó¦b¥¿½Tªº±¡§Î¤U¨Ï¥Î¥¿½Tªº¸ê®Æ¶°¤¸¥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Delphiªº¤T­Ó¸ê®Æ¶°¤¸¥ó¤¤TTable©MTQuery¬O¤ñ¸û°¾¦V«È¤áºÝªº¦Ó TStoredProc«h¬OÄÝ©ó¦øªAºÝªº¤¸¥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0" y="13320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2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5724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320" y="91440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Query¤¸¥ó¥Ñ©ó¥i¥HÅý§Ú­Ì¨Ï¥ÎSQL±Ô­z±±¨î¸ê®Æ®wªí®æcursorªº«Ø¥ß¡A©Ò¥H¦³ §Ú­Ì¦³³Ì¤jªº±±¨îÅv¦Ó¥BTQuery¤¸¥óªº¦æ¬°¤]¤ñ¸û¤£·|¥X¥G§Ú­Ìªº·N®Æ¤§¥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able¦b¨Ï¥Î©óxBase¸ê®Æ®wªº®É­Ô¨ä¦æ¬°¥i¯à«D±`ªº®e©öÁA¸Ñ¡A©Ò¥H°ÝÃD¤£¤j¡C¦ý¬O·íTTable¨Ï¥Î¦bSQL Serverªº®É­Ô¨ä¦æ¬°·|¥ÑBDE/IDAPI©Ò±±¨î¡A©Ò¥H§A¥²¶·«D±`ªº¤p¤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TStoredProc¤¸¥ó¦³¼Æ­Ó­«­nªºÆ[©À¬O§Ú­Ì¥²¶·ª¾¹Dª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5724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320" y="762120"/>
            <a:ext cx="9066240" cy="60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Query¤¸¥ó©MTStoredProc¤¸¥óªº¤ñ¸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-BASED QUERY OPTI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2895480"/>
            <a:ext cx="1752480" cy="11430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3505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743200"/>
            <a:ext cx="1676520" cy="1600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50532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1600200"/>
            <a:ext cx="2514600" cy="5029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029200"/>
            <a:ext cx="1752480" cy="129528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5334120"/>
            <a:ext cx="4191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765840" y="3584520"/>
            <a:ext cx="201312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¸ê®Æ®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572000"/>
            <a:ext cx="1447920" cy="2057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37240" y="51847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x¦sµ{§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600200"/>
            <a:ext cx="1066680" cy="1600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37240" y="22892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sÄ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1600200"/>
            <a:ext cx="838080" cy="1600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04280" y="22129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õ¦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65440" y="335592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17680" y="312408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3640" y="525780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17880" y="2441520"/>
            <a:ext cx="1370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±Ô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651040" y="465120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x¦sµ{§Çªº°Ñ¼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0" y="13320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838080"/>
            <a:ext cx="91425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TStordProc¤¸¥óªºÀu¯ÊÂ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£©ö²¾´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2251080"/>
            <a:ext cx="79232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0" y="13320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2280" y="685800"/>
            <a:ext cx="898992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TStordProc¤¸¥óªºÀu¯ÊÂ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x¦sµ{§Ç¥i¯à·|¦³«Ü®tªº°õ¦æ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362320"/>
            <a:ext cx="1828800" cy="76212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2286000"/>
            <a:ext cx="1219320" cy="6858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6440" y="5032440"/>
            <a:ext cx="230976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¸ê®Æ®w 1000µ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727360" y="4956120"/>
            <a:ext cx="23684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¸ê®Æ®w10000µ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666880"/>
            <a:ext cx="1067040" cy="2286360"/>
          </a:xfrm>
          <a:custGeom>
            <a:avLst/>
            <a:gdLst/>
            <a:ahLst/>
            <a:rect l="0" t="0" r="r" b="b"/>
            <a:pathLst>
              <a:path fill="none" w="2964" h="6351">
                <a:moveTo>
                  <a:pt x="2964" y="0"/>
                </a:moveTo>
                <a:lnTo>
                  <a:pt x="2964" y="0"/>
                </a:lnTo>
                <a:cubicBezTo>
                  <a:pt x="2444" y="0"/>
                  <a:pt x="1933" y="293"/>
                  <a:pt x="1482" y="851"/>
                </a:cubicBezTo>
                <a:cubicBezTo>
                  <a:pt x="1031" y="1408"/>
                  <a:pt x="657" y="2210"/>
                  <a:pt x="397" y="3176"/>
                </a:cubicBezTo>
                <a:cubicBezTo>
                  <a:pt x="137" y="4141"/>
                  <a:pt x="0" y="5236"/>
                  <a:pt x="0" y="635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666880"/>
            <a:ext cx="1219680" cy="2210040"/>
          </a:xfrm>
          <a:custGeom>
            <a:avLst/>
            <a:gdLst/>
            <a:ahLst/>
            <a:rect l="0" t="0" r="r" b="b"/>
            <a:pathLst>
              <a:path fill="none" w="3388" h="6139">
                <a:moveTo>
                  <a:pt x="3388" y="6139"/>
                </a:moveTo>
                <a:lnTo>
                  <a:pt x="3388" y="6139"/>
                </a:lnTo>
                <a:lnTo>
                  <a:pt x="3388" y="6139"/>
                </a:lnTo>
                <a:cubicBezTo>
                  <a:pt x="3388" y="5061"/>
                  <a:pt x="3231" y="4003"/>
                  <a:pt x="2934" y="3069"/>
                </a:cubicBezTo>
                <a:cubicBezTo>
                  <a:pt x="2637" y="2136"/>
                  <a:pt x="2209" y="1361"/>
                  <a:pt x="1694" y="822"/>
                </a:cubicBezTo>
                <a:cubicBezTo>
                  <a:pt x="1179" y="284"/>
                  <a:pt x="59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17880" y="251784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7480" y="2286000"/>
            <a:ext cx="1219320" cy="6858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708440" y="4041720"/>
            <a:ext cx="230976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¸ê®Æ®w 1000µ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613560" y="5184720"/>
            <a:ext cx="23684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¸ê®Æ®w10000µ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259092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19920" y="30481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8229600" y="3048120"/>
            <a:ext cx="76320" cy="21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6320" y="209520"/>
            <a:ext cx="906624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762120"/>
            <a:ext cx="914256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TStordProc¤¸¥óªºÀu¯ÊÂ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@¯ëªºlocal¸ê®Æ®w¤£¤ä´©Àx¦sµ{§Ç¡A©Ò¥HÀ³¥Îµ{¦¡¥¢¥h¤F¸ê®Æ®wªº³q³z©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0" y="133200"/>
            <a:ext cx="90676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9144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Two-TierªºClient/ServerÀ³¥Î¬[ºc¤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­t³d³B²z¨Ï¥ÎªÌ¤¶­±¥H¤ÎÀ³¥Îµ{¦¡ÅÞ¿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³B²z¸ê®ÆªºÀx¦s©MºÞ²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Ú­Ì§Æ±æ¦bClient/ServerªºÀ³¥Î¬[ºc¤¤¥i¥H«Ü¦³®Ä²vªº°õ¦æ§Ú­Ìªº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6320" y="0"/>
            <a:ext cx="9066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320" y="743040"/>
            <a:ext cx="90662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{¦bÅý§Ú­Ì¨Ó¬Ý¤@¨Ç½d¨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¤@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@¯ë¨Ï¥Î§ó·s¸ê®Æªº¤èª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320" y="0"/>
            <a:ext cx="9066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6320" y="743040"/>
            <a:ext cx="90662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{¦bÅý§Ú­Ì¨Ó¬Ý¤@¨Ç½d¨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¤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¦ó§ïµ½½d¨Ò¤@ªº°õ¦æ®Ä²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±¨îTransactionªº¦¸¼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6320" y="0"/>
            <a:ext cx="9066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320" y="743040"/>
            <a:ext cx="90662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{¦bÅý§Ú­Ì¨Ó¬Ý¤@¨Ç½d¨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¤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¦ó§ïµ½½d¨Ò¤@ªº°õ¦æ®Ä²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î¤Ö SQL Server½sÄ¶©M«Ø¥ßAccess Planªº¦¸¼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6320" y="0"/>
            <a:ext cx="9066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320" y="743040"/>
            <a:ext cx="90662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{¦bÅý§Ú­Ì¨Ó¬Ý¤@¨Ç½d¨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d¨Ò¥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¦ó§ïµ½½d¨Ò¤@ªº°õ¦æ®Ä²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ä¥L¥i¯à¨Ï¥Îªº¤èª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SQL Insert±Ô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Pass Through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Àx¦sµ{§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t¦XCached Update©MUpdat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¦h°õ¦æºüªº¥\¯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285840"/>
            <a:ext cx="90676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52280" y="9907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«Ø¥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2.0´£¨Ñ¤F³o¥\¯à¥i¥HÅý§Ú­Ì¦b¦h¤Hªººô¸ôÀô¹Ò¤¤¼W¥[À³¥Îµ{¦¡ªº°õ¦æ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Update©MUpadateSQL¥i¥HÅý§Ú­Ì§JªA¥Ø«eBDE/IDAPI¹ï©óLocal SQLªº­­¨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Update©MUpdateSQL¬OBDE/IDAPI¥»¨­´£¨Ñªº¤@­Ó¥\¯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ªG¨Ï¥ÎCachedUpdate©MUpdateSQL¦A°t¦X¦h°õ¦æºüªº¥\¯à¥i¥HÅý§AªºÀ³¥Îµ{¦¡°õ¦æªº«D±`¦³®Ä²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20952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320" y="8380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¨Ï¥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ýÅý§Ú­Ì¬Ý¤@­Ó½d¨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QLªº­­¨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3320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2280" y="762120"/>
            <a:ext cx="898992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¨Ï¥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Upadate©MUpdateSQLªº­ì²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2362320"/>
            <a:ext cx="1828800" cy="2057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362320"/>
            <a:ext cx="1828800" cy="2057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81680" y="2362320"/>
            <a:ext cx="1828800" cy="2057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794040" y="312732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2160" y="3051000"/>
            <a:ext cx="163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69960" y="282240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81952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81952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5638680"/>
            <a:ext cx="373392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108240" y="5946840"/>
            <a:ext cx="321480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/IDAPI½w½Ä°O¾ÐÅ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44197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8280" y="365760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70160" y="3135240"/>
            <a:ext cx="1606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pdate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486400" y="419112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438280" y="419112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346480" y="465948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pdate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0" y="20952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320" y="7621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¨Ï¥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¨Ï¥ÎCachedUpadte©MUpdateSQLÀ³¸Óª`·Nªº¨Æ¶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¨Ï¥ÎCachedUpdate©MUpdateSQLªº®É­Ô¥²¶·ª`·Nºô¸ôªº­t²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¨Ï¥ÎCachedUpdate©MUpdateSQLªº®É­Ô¥²¶·½T¹ê°µ¦n¨Ò¥~³B²zªº¤u§@¡A§Y¥²¶·³B²zOnUpdateErrorªº¨Æ¥ó³B²z¨ç¼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0" y="20952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2280" y="83808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d Update©MUpdateSQLªº¨Ï¥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p¦ó¨Ï¥ÎCachedUpdate©MUpdateSQL§ó·s¦h­Ó¸ê®Æ®wªí®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ø·~ª«¥ó(business o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ø·~ª«¥óªº¥X²{¬O¬°¤F´î¤Ö­«½Æ©Êµ{¦¡½Xªº¼¶¼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i¥HÅý¤@­Ó²ÕÂ´¶}µo««ª½©Êªº±MÄÝ¤¸¥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N-TierªºClient/Server¬[ºc¤¤¥i¥H¥R¤Àªºµo´§¨ä®Ä¥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28584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320" y="990720"/>
            <a:ext cx="9066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M¦ÓTwo-TierªºClient/ServerÀ³¥Î¬[ºc¦b§Ú­ÌªºÀ³¥Î¨t²Îµo®i¨ì¤@©w¤j¤pªº®É­Ô¥X²{¤F¤U­±ªº°ÝÃ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ªÎ­D¡A½ÆÂøªº«È¤áºÝ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{¦¡½Xªº¥i¥Î©Ê­°§C¤F¡A¦]¬°¬Û¦Pªºµ{¦¡½X©Î¬O¤¸¥ó¥²¶·¥X²{¥H¤Î³sµ²¦b¨C¤@­Ó«È¤áºÝªºÀ³¥Îµ{¦¡¤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ÆÂøªººûÅ@¥H¤Î§ó·s«È¤áºÝÀ³¥Îµ{¦¡ªºµ{§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³¥Îµ{¦¡ª©¥»±±¨îªº°ÝÃD¦¨¬°¤@­Ó¥O¤HÀYµhªº°ÝÃ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u§@¤£¥­¿Åªº¦øªAº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©M¦øªAºÝ¤u§@¤À¬£ªº°ÝÃ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TierªºÀ³¥Î¬[ºc¥X²{¤F¨t²Î°õ¦æ¤Wªº²~À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0" y="57240"/>
            <a:ext cx="91425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6320" y="762120"/>
            <a:ext cx="90662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¸¥ó¶}µo¾É¦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Tier¬[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À´²¦¡ªº­pºâÀô¹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²¦XInternet/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0" y="133200"/>
            <a:ext cx="914256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320" y="838080"/>
            <a:ext cx="906624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¸¥ó¶}µo¾É¦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97±N·|¤ä´©ActiveXªº¤¸¥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¤¸¥ó¬[ºc±N±q¤u¨ã¤¸¥ó(VCL)¨«¦V¨t²Î¤¸¥ó¬[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±N·|¦bDelphi¤¤§êºt¤@­Ó­«­nªº¨¤¦â¡C¦]¬°¥¦¤£¦ý¥i¥HÀ°§U§Ú­Ì¶}µo¤@¯ëªºÀ³¥Îµ{¦¡¡A¦Ó¥B¥¦ÁÙ¦bInternet/Intranet©M¤À´²¦¡ªº­pºâÀô¹Ò¤¤¦û¦³­«­nªº¦a¦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 97±N·|¦³«D±`¦nªº¤u¨ãÅý§Ú­Ì«Ø¥ßActiveX¡C¦ÓDelphi 97´£¨Ñªº¤ä´©ActiveXªº¯à¤O±N·|Åý§A°£¤F¥i¥H«Ø¥ßActiveX¤§¥~¡A¤]Åý§A§ó®e©öªº¾é¸ÑActiveX¥»¨­ªº­ì²z¦Ó¤£¥u¬O¹³VB¥uÅý§A«Ø¥ßActiveX¡C¦P®É¤]Á×§K¤FVC++ªº½ÆÂø«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¸¥ó¬[ºc´£¨Ñ¤F§ó¦nªºÀ³¥Îµ{¦¡¶}µo¤è¦¡¥H¤Î§ó©ö©óºûÅ@ªº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Tierªº¬[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19760" y="243036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6200" y="243036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291636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42160" y="340344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848720" y="3602160"/>
            <a:ext cx="838080" cy="533160"/>
            <a:chOff x="7848720" y="3602160"/>
            <a:chExt cx="838080" cy="533160"/>
          </a:xfrm>
        </p:grpSpPr>
        <p:sp>
          <p:nvSpPr>
            <p:cNvPr id="381" name=""/>
            <p:cNvSpPr/>
            <p:nvPr/>
          </p:nvSpPr>
          <p:spPr>
            <a:xfrm>
              <a:off x="7848720" y="367812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8720" y="398304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48720" y="360216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682560" y="34210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2560" y="448776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905120" y="2916360"/>
            <a:ext cx="1981080" cy="99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905120" y="2916360"/>
            <a:ext cx="198108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57760" y="3497400"/>
            <a:ext cx="1631880" cy="184752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Bus.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32972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962520" y="5430960"/>
            <a:ext cx="1523880" cy="533160"/>
            <a:chOff x="3962520" y="5430960"/>
            <a:chExt cx="1523880" cy="533160"/>
          </a:xfrm>
        </p:grpSpPr>
        <p:sp>
          <p:nvSpPr>
            <p:cNvPr id="391" name=""/>
            <p:cNvSpPr/>
            <p:nvPr/>
          </p:nvSpPr>
          <p:spPr>
            <a:xfrm>
              <a:off x="3962520" y="5506920"/>
              <a:ext cx="15238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811840"/>
              <a:ext cx="15238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5430960"/>
              <a:ext cx="15238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 txBox="1"/>
          <p:nvPr/>
        </p:nvSpPr>
        <p:spPr>
          <a:xfrm>
            <a:off x="5757840" y="3116160"/>
            <a:ext cx="9032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505240" y="3403440"/>
            <a:ext cx="1228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C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2560" y="555480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905120" y="2916360"/>
            <a:ext cx="1981080" cy="30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À´²¦¡ªº­pºâÀô¹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719760" y="281160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6200" y="28116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42160" y="378468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848720" y="3983040"/>
            <a:ext cx="838080" cy="533160"/>
            <a:chOff x="7848720" y="3983040"/>
            <a:chExt cx="838080" cy="533160"/>
          </a:xfrm>
        </p:grpSpPr>
        <p:sp>
          <p:nvSpPr>
            <p:cNvPr id="404" name=""/>
            <p:cNvSpPr/>
            <p:nvPr/>
          </p:nvSpPr>
          <p:spPr>
            <a:xfrm>
              <a:off x="7848720" y="405936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8720" y="436392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48720" y="398304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 txBox="1"/>
          <p:nvPr/>
        </p:nvSpPr>
        <p:spPr>
          <a:xfrm>
            <a:off x="530280" y="27352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757840" y="3497400"/>
            <a:ext cx="9032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4013280"/>
            <a:ext cx="289548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CreateRemoteOLE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33526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86400" y="320040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812960" y="21366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Entrep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117880" y="5261040"/>
            <a:ext cx="203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¥i¥Hª½±µ¥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97²£¥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952880" y="2209680"/>
            <a:ext cx="228600" cy="609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089680" y="19080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62520" y="44118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8098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719760" y="281160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6200" y="28116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42160" y="378468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848720" y="3983040"/>
            <a:ext cx="838080" cy="533160"/>
            <a:chOff x="7848720" y="3983040"/>
            <a:chExt cx="838080" cy="533160"/>
          </a:xfrm>
        </p:grpSpPr>
        <p:sp>
          <p:nvSpPr>
            <p:cNvPr id="424" name=""/>
            <p:cNvSpPr/>
            <p:nvPr/>
          </p:nvSpPr>
          <p:spPr>
            <a:xfrm>
              <a:off x="7848720" y="405936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48720" y="436392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48720" y="398304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 txBox="1"/>
          <p:nvPr/>
        </p:nvSpPr>
        <p:spPr>
          <a:xfrm>
            <a:off x="530280" y="27352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757840" y="3497400"/>
            <a:ext cx="9032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4013280"/>
            <a:ext cx="289548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CreateRemoteOLE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33526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320040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812960" y="21366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Entrep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117880" y="5261040"/>
            <a:ext cx="203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¥i¥Hª½±µ¥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97²£¥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952880" y="2209680"/>
            <a:ext cx="228600" cy="609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62520" y="44118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24280" y="38098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89680" y="19080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9080" y="5337000"/>
            <a:ext cx="1581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hin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85800" y="3733920"/>
            <a:ext cx="152280" cy="1523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0" y="13320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609480"/>
            <a:ext cx="9142560" cy="62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²¦XInternet/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57360" y="1668600"/>
            <a:ext cx="124308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62440" y="1744560"/>
            <a:ext cx="162720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719760" y="281160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2560" y="27352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6200" y="28116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2154240"/>
            <a:ext cx="19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498760" y="17272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62720" y="329724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42160" y="378468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848720" y="3983040"/>
            <a:ext cx="838080" cy="533160"/>
            <a:chOff x="7848720" y="3983040"/>
            <a:chExt cx="838080" cy="533160"/>
          </a:xfrm>
        </p:grpSpPr>
        <p:sp>
          <p:nvSpPr>
            <p:cNvPr id="454" name=""/>
            <p:cNvSpPr/>
            <p:nvPr/>
          </p:nvSpPr>
          <p:spPr>
            <a:xfrm>
              <a:off x="7848720" y="405936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48720" y="436392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48720" y="398304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05120" y="3297240"/>
            <a:ext cx="19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98760" y="287028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T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261144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2560" y="380196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2560" y="486900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905120" y="3297240"/>
            <a:ext cx="19810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905120" y="3297240"/>
            <a:ext cx="198108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57760" y="3878280"/>
            <a:ext cx="1631880" cy="184752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Bus.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2611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678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962520" y="5811840"/>
            <a:ext cx="1523880" cy="533160"/>
            <a:chOff x="3962520" y="5811840"/>
            <a:chExt cx="1523880" cy="533160"/>
          </a:xfrm>
        </p:grpSpPr>
        <p:sp>
          <p:nvSpPr>
            <p:cNvPr id="468" name=""/>
            <p:cNvSpPr/>
            <p:nvPr/>
          </p:nvSpPr>
          <p:spPr>
            <a:xfrm>
              <a:off x="3962520" y="5888160"/>
              <a:ext cx="15238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2520" y="6192720"/>
              <a:ext cx="15238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62520" y="5811840"/>
              <a:ext cx="15238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 txBox="1"/>
          <p:nvPr/>
        </p:nvSpPr>
        <p:spPr>
          <a:xfrm>
            <a:off x="5757840" y="3497400"/>
            <a:ext cx="9032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05240" y="3784680"/>
            <a:ext cx="1228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C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2560" y="59356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905120" y="3297240"/>
            <a:ext cx="1981080" cy="304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76320" y="133200"/>
            <a:ext cx="90662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²¦XInternet/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633840" y="3476520"/>
            <a:ext cx="162720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576440" y="2255760"/>
            <a:ext cx="164772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729400" y="227808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274320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848720" y="2306520"/>
            <a:ext cx="838080" cy="533520"/>
            <a:chOff x="7848720" y="2306520"/>
            <a:chExt cx="838080" cy="533520"/>
          </a:xfrm>
        </p:grpSpPr>
        <p:sp>
          <p:nvSpPr>
            <p:cNvPr id="482" name=""/>
            <p:cNvSpPr/>
            <p:nvPr/>
          </p:nvSpPr>
          <p:spPr>
            <a:xfrm>
              <a:off x="7848720" y="23828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48720" y="268776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48720" y="230652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4920" y="2306520"/>
            <a:ext cx="838080" cy="533520"/>
            <a:chOff x="304920" y="2306520"/>
            <a:chExt cx="838080" cy="533520"/>
          </a:xfrm>
        </p:grpSpPr>
        <p:sp>
          <p:nvSpPr>
            <p:cNvPr id="486" name=""/>
            <p:cNvSpPr/>
            <p:nvPr/>
          </p:nvSpPr>
          <p:spPr>
            <a:xfrm>
              <a:off x="304920" y="23828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920" y="268776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230652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15200" y="26668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23840" y="3268800"/>
            <a:ext cx="1631880" cy="184752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Bus.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527960" y="317484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200400"/>
            <a:ext cx="99072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334120" y="320040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691240" y="5307120"/>
            <a:ext cx="1627200" cy="1370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995480" y="5478480"/>
            <a:ext cx="1589040" cy="92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¶Ç²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743200" y="4419720"/>
            <a:ext cx="152388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4419720"/>
            <a:ext cx="1752840" cy="914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76320" y="133200"/>
            <a:ext cx="90662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633840" y="3476520"/>
            <a:ext cx="162720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576440" y="2255760"/>
            <a:ext cx="164772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729400" y="227808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274320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848720" y="2306520"/>
            <a:ext cx="838080" cy="533520"/>
            <a:chOff x="7848720" y="2306520"/>
            <a:chExt cx="838080" cy="533520"/>
          </a:xfrm>
        </p:grpSpPr>
        <p:sp>
          <p:nvSpPr>
            <p:cNvPr id="506" name=""/>
            <p:cNvSpPr/>
            <p:nvPr/>
          </p:nvSpPr>
          <p:spPr>
            <a:xfrm>
              <a:off x="7848720" y="23828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48720" y="268776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8720" y="230652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04920" y="2306520"/>
            <a:ext cx="838080" cy="533520"/>
            <a:chOff x="304920" y="2306520"/>
            <a:chExt cx="838080" cy="533520"/>
          </a:xfrm>
        </p:grpSpPr>
        <p:sp>
          <p:nvSpPr>
            <p:cNvPr id="510" name=""/>
            <p:cNvSpPr/>
            <p:nvPr/>
          </p:nvSpPr>
          <p:spPr>
            <a:xfrm>
              <a:off x="304920" y="23828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4920" y="268776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920" y="230652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15200" y="26668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23840" y="3268800"/>
            <a:ext cx="1631880" cy="184752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- Bus.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527960" y="317484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3200400"/>
            <a:ext cx="99072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334120" y="320040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691240" y="5307120"/>
            <a:ext cx="1627200" cy="1370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995480" y="5478480"/>
            <a:ext cx="1589040" cy="92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¶Ç²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  <a:ea typeface="GillSans"/>
              </a:rPr>
              <a:t>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743200" y="4419720"/>
            <a:ext cx="152388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24280" y="4419720"/>
            <a:ext cx="1752840" cy="914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57600" y="1600200"/>
            <a:ext cx="5410080" cy="5181480"/>
          </a:xfrm>
          <a:prstGeom prst="rect">
            <a:avLst/>
          </a:prstGeom>
          <a:noFill/>
          <a:ln w="2556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095880" y="1219320"/>
            <a:ext cx="3046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nternet/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¶}µo¤u¨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0" y="1601640"/>
            <a:ext cx="5410080" cy="5181480"/>
          </a:xfrm>
          <a:prstGeom prst="rect">
            <a:avLst/>
          </a:prstGeom>
          <a:noFill/>
          <a:ln w="2556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480" y="1517760"/>
            <a:ext cx="3976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Client/Server¶}µo¤u¨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2858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¥¼¨ÓClient/Server¬[ºcªººtÅ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2560" y="20494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6200" y="212580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2560" y="311616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2560" y="441180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6200" y="4487760"/>
            <a:ext cx="1603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2560" y="5478480"/>
            <a:ext cx="12254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304812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5146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5120" y="2666880"/>
            <a:ext cx="19810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5120" y="4800600"/>
            <a:ext cx="19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981080" y="4876920"/>
            <a:ext cx="19051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320" y="1828800"/>
            <a:ext cx="6172200" cy="23623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20" y="4343400"/>
            <a:ext cx="6172200" cy="23623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81880" y="2735280"/>
            <a:ext cx="15890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2514600"/>
            <a:ext cx="1981080" cy="70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672240" y="4030560"/>
            <a:ext cx="903240" cy="920880"/>
          </a:xfrm>
          <a:prstGeom prst="rect">
            <a:avLst/>
          </a:prstGeom>
          <a:solidFill>
            <a:srgbClr val="05b6b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486400" y="3276720"/>
            <a:ext cx="1905120" cy="167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0" y="57240"/>
            <a:ext cx="91425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320" y="609480"/>
            <a:ext cx="90662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²½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´£¨Ñ¤F¥¼¨Ó©Ò¦³¥²­nªº¶}µo¬ì§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¦b´£¨Ñ±j«lªº¥\¯à©M©ö©ó¨Ï¥Î¤§¶¡°µ¤F¤@­Ó³Ì¦nªº²V¦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phiªºClient/Server¯à¤O¦b¥¼¨Ó·|´£¨Ñ§ó½ÆÂøªº¥\¯à¥H¤Î·|Åý§Ú­Ì¦³§ó¤jªº±±¨î¯à¤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b¨Ï¥ÎDelphi¶}µoClient/ServerÀ³¥Îµ{¦¡ªº®É­Ô½ÐÁA¸Ñ²Õ¦¨³¡¥÷ªº¯S©Ê¡C¥Ñ©óBDE/IDAPI·|¤£Â_ªº§ó·s¡A©Ò¥H§A¥²¶·®É®Éª`·N¥¦ªºµo®i¡C¦]¬°¥¦¬O§Aªº«È¤áºÝDelphiÀ³¥Îµ{¦¡©M«áºÝSQL Serverªº³sµ²ª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O±o¨Ï¥ÎDelphiªºSQL MonitorÆ[¬d§AªºÀ³¥Îµ{¦¡ªº¦æ¬°¨Ã¥B¨Ï¥Î«áºÝªºTrace¤u¨ã¬Ý¬ÝSQL Server¦p¦ó°õ¦æ§Aªº¸ê®Æ¬d¸ß¡A§ó·sªº°Ê§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57240"/>
            <a:ext cx="914256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320" y="762120"/>
            <a:ext cx="90662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ªº¥X²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56560" y="2182680"/>
            <a:ext cx="1222200" cy="1096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567480" y="3171960"/>
            <a:ext cx="15890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3402000"/>
            <a:ext cx="1452600" cy="482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689880" y="4145040"/>
            <a:ext cx="1390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Inter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96080" y="4343400"/>
            <a:ext cx="838080" cy="533160"/>
            <a:chOff x="7696080" y="4343400"/>
            <a:chExt cx="838080" cy="533160"/>
          </a:xfrm>
        </p:grpSpPr>
        <p:sp>
          <p:nvSpPr>
            <p:cNvPr id="169" name=""/>
            <p:cNvSpPr/>
            <p:nvPr/>
          </p:nvSpPr>
          <p:spPr>
            <a:xfrm>
              <a:off x="7696080" y="441972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4724280"/>
              <a:ext cx="838080" cy="1522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4343400"/>
              <a:ext cx="838080" cy="152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752480" y="365760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4086360"/>
            <a:ext cx="130032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1720" y="2106720"/>
            <a:ext cx="1225440" cy="920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  <a:ea typeface="GillSans"/>
              </a:rPr>
              <a:t>Cli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2590920"/>
            <a:ext cx="480060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3657600"/>
            <a:ext cx="480060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71720" y="4608360"/>
            <a:ext cx="1736640" cy="19198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8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SQ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­ì¥ÍÅX°Êµ{¦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DBC ÅX°Êµ{¦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GillSans"/>
                <a:ea typeface="GillSans"/>
              </a:rPr>
              <a:t>OLE DB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019240" y="2906640"/>
            <a:ext cx="12222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274320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ÂÁÂ¤j®a¡A§Ú­Ì©ú¤Ñ¦A¨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õºû 11/28/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orland Taiwan 96 Delphi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838080"/>
            <a:ext cx="91425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ªº¥X²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Ú­Ì§Æ±æ«È¤áºÝªºÀ³¥Î¨t²Îªº³]©w¯à°÷·UÂ²³æ·U¦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¯à°÷»´©öªººûÅ@À³¥Î¨t²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¯à°÷¦³§ó¦nªºµ{¦¡½X©Î¬O¤¸¥óªº¨Ï¥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¤ñ²{¦bªºTwo-Tier Client/Server§ó¦³¼u©Ê¡A§ó¦³®Ä²v¦Ó¥B§ó®e©ö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52280" y="285840"/>
            <a:ext cx="898992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280" y="990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ªº¥X²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2438280" cy="2743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276720" y="2971800"/>
            <a:ext cx="26668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962520"/>
            <a:ext cx="289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3962520"/>
            <a:ext cx="274320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2362320"/>
            <a:ext cx="22096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72000"/>
            <a:ext cx="22096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50840" y="3736800"/>
            <a:ext cx="2216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¹q¸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308640" y="259380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537240" y="48038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61280" y="36608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52280" y="285840"/>
            <a:ext cx="8989920" cy="5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¨Ï¥ÎDelphi¶}µoClient/ServerÀ³¥Îµ{¦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280" y="990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9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Åwªï¨Ó¨ìClient/Serverªº¥@¬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-Clientªº¥X²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666880"/>
            <a:ext cx="2438280" cy="27432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276720" y="2971800"/>
            <a:ext cx="26668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962520"/>
            <a:ext cx="289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962520"/>
            <a:ext cx="274320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2362320"/>
            <a:ext cx="22096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4572000"/>
            <a:ext cx="2209680" cy="91440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50840" y="373680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¦øªAºÝ¹q¸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851440" y="259380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61280" y="366084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04080" y="480384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È¤áºÝÀ³¥Îµ{¦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1676520"/>
            <a:ext cx="3505320" cy="480060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19720" y="167940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ÆÂøªº«È¤áºÝ³nÅéªº³]©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rdon</dc:creator>
  <dc:description/>
  <dc:language>en-US</dc:language>
  <cp:lastModifiedBy>Gordon</cp:lastModifiedBy>
  <cp:revision>0</cp:revision>
  <dc:subject/>
  <dc:title>¨S¦³§ë¼v¤ù¼ÐÃD</dc:title>
</cp:coreProperties>
</file>