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ED3-E12C-4754-9357-135093CD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C64-A48E-4BDB-86BF-00EB80D4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2EF-8B51-4E43-8E2C-3035FC8A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7BF-EAC3-46B3-A871-B9C9B1AB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444-EF5B-459F-8024-58368EFC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3FE-9004-46D8-8222-1D466C3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5D8-59D1-47DE-9BED-AB4F7983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77-EDD1-44A3-AA1D-212EC3E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B7E-D06C-482C-9912-9F7C31B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849-99CE-4BBB-A8B5-CB7F145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D2D-1805-49E0-BD05-BF0359B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537-CC5C-42B0-BEA0-5608358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A35A-B51A-45D8-BF1E-BA9A421EA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mailto:Vkarpov@Lukoil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162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енератор отчетов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K Reports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600" y="5867280"/>
            <a:ext cx="1828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сква, 2000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5720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ладислав Карп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9E8-A89D-45CC-A4C0-D5AEEC163C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ример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TF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8195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32767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37339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7339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9680" y="14479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{ RTF Head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68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880" y="22860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#BEGIN BOD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0200" y="27432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 …} {…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5320" y="32767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0200" y="3733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 …} {…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1520" y="419112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#END BOD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0040" y="51055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362320"/>
            <a:ext cx="0" cy="228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99072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KREP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68580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7621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3280" y="175248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{ RTF Head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996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800" y="28195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 …} {…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596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800" y="37339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 …} {…}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25780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95288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0292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6668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106668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572000"/>
            <a:ext cx="2286000" cy="160020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в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rot="5368800">
            <a:off x="3234600" y="1789200"/>
            <a:ext cx="1139760" cy="1828800"/>
          </a:xfrm>
          <a:custGeom>
            <a:avLst/>
            <a:gdLst>
              <a:gd name="textAreaLeft" fmla="*/ 360 w 1139760"/>
              <a:gd name="textAreaRight" fmla="*/ 1140480 w 1139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261" stAng="10800000" swAng="5400000"/>
                <a:lnTo>
                  <a:pt x="14177" y="1899"/>
                </a:lnTo>
                <a:lnTo>
                  <a:pt x="14177" y="0"/>
                </a:lnTo>
                <a:lnTo>
                  <a:pt x="21600" y="6079"/>
                </a:lnTo>
                <a:lnTo>
                  <a:pt x="14177" y="12158"/>
                </a:lnTo>
                <a:lnTo>
                  <a:pt x="14177" y="10259"/>
                </a:lnTo>
                <a:lnTo>
                  <a:pt x="12427" y="10259"/>
                </a:lnTo>
                <a:arcTo wR="4067" hR="1901" stAng="16200000" swAng="-5400000"/>
                <a:lnTo>
                  <a:pt x="836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10768800">
            <a:off x="4866840" y="2130480"/>
            <a:ext cx="1685880" cy="1450440"/>
          </a:xfrm>
          <a:custGeom>
            <a:avLst/>
            <a:gdLst>
              <a:gd name="textAreaLeft" fmla="*/ -360 w 1685880"/>
              <a:gd name="textAreaRight" fmla="*/ 1685880 w 1685880"/>
              <a:gd name="textAreaTop" fmla="*/ 0 h 1450440"/>
              <a:gd name="textAreaBottom" fmla="*/ 1450800 h 145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5368800">
            <a:off x="3008520" y="2017800"/>
            <a:ext cx="1596960" cy="1828800"/>
          </a:xfrm>
          <a:custGeom>
            <a:avLst/>
            <a:gdLst>
              <a:gd name="textAreaLeft" fmla="*/ 360 w 1596960"/>
              <a:gd name="textAreaRight" fmla="*/ 1597680 w 15969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38" stAng="10800000" swAng="5400000"/>
                <a:lnTo>
                  <a:pt x="13735" y="3122"/>
                </a:lnTo>
                <a:lnTo>
                  <a:pt x="13735" y="0"/>
                </a:lnTo>
                <a:lnTo>
                  <a:pt x="21600" y="6079"/>
                </a:lnTo>
                <a:lnTo>
                  <a:pt x="13735" y="12158"/>
                </a:lnTo>
                <a:lnTo>
                  <a:pt x="13735" y="9036"/>
                </a:lnTo>
                <a:lnTo>
                  <a:pt x="12427" y="9036"/>
                </a:lnTo>
                <a:arcTo wR="6513" hR="3124" stAng="16200000" swAng="-5400000"/>
                <a:lnTo>
                  <a:pt x="5914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10768800">
            <a:off x="4868640" y="2130480"/>
            <a:ext cx="1684080" cy="1985760"/>
          </a:xfrm>
          <a:custGeom>
            <a:avLst/>
            <a:gdLst>
              <a:gd name="textAreaLeft" fmla="*/ 360 w 1684080"/>
              <a:gd name="textAreaRight" fmla="*/ 1684800 w 1684080"/>
              <a:gd name="textAreaTop" fmla="*/ 0 h 1985760"/>
              <a:gd name="textAreaBottom" fmla="*/ 1986120 h 1985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rot="10768800">
            <a:off x="4866480" y="2130120"/>
            <a:ext cx="1684440" cy="2670120"/>
          </a:xfrm>
          <a:custGeom>
            <a:avLst/>
            <a:gdLst>
              <a:gd name="textAreaLeft" fmla="*/ -360 w 1684440"/>
              <a:gd name="textAreaRight" fmla="*/ 1684440 w 1684440"/>
              <a:gd name="textAreaTop" fmla="*/ 0 h 2670120"/>
              <a:gd name="textAreaBottom" fmla="*/ 2670480 h 267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5368800">
            <a:off x="2779560" y="2246400"/>
            <a:ext cx="2054160" cy="1828800"/>
          </a:xfrm>
          <a:custGeom>
            <a:avLst/>
            <a:gdLst>
              <a:gd name="textAreaLeft" fmla="*/ 360 w 2054160"/>
              <a:gd name="textAreaRight" fmla="*/ 2054880 w 20541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38" stAng="10800000" swAng="5400000"/>
                <a:lnTo>
                  <a:pt x="13735" y="3122"/>
                </a:lnTo>
                <a:lnTo>
                  <a:pt x="13735" y="0"/>
                </a:lnTo>
                <a:lnTo>
                  <a:pt x="21600" y="6079"/>
                </a:lnTo>
                <a:lnTo>
                  <a:pt x="13735" y="12158"/>
                </a:lnTo>
                <a:lnTo>
                  <a:pt x="13735" y="9036"/>
                </a:lnTo>
                <a:lnTo>
                  <a:pt x="12427" y="9036"/>
                </a:lnTo>
                <a:arcTo wR="6513" hR="3124" stAng="16200000" swAng="-5400000"/>
                <a:lnTo>
                  <a:pt x="5914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45C-8C3A-4D7E-9E77-BFCE999B94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ример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YLK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33412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00200"/>
            <a:ext cx="2438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;PWXL;N;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;Y1;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K“#0001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Y2;K”@000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X4;K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98108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51460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04812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4320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27672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09680"/>
            <a:ext cx="0" cy="2057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99072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KREP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68580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7621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25780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95288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0292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06668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57200"/>
            <a:ext cx="3200400" cy="586728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5867280"/>
              <a:gd name="textAreaBottom" fmla="*/ 5711040 h 5867280"/>
            </a:gdLst>
            <a:ahLst/>
            <a:rect l="textAreaLeft" t="textAreaTop" r="textAreaRight" b="textAreaBottom"/>
            <a:pathLst>
              <a:path w="21600" h="39597">
                <a:moveTo>
                  <a:pt x="3600" y="0"/>
                </a:moveTo>
                <a:arcTo wR="3600" hR="3600" stAng="16200000" swAng="-5400000"/>
                <a:lnTo>
                  <a:pt x="0" y="35997"/>
                </a:lnTo>
                <a:arcTo wR="3600" hR="3600" stAng="10800000" swAng="-5400000"/>
                <a:lnTo>
                  <a:pt x="18000" y="39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5368800">
            <a:off x="3577320" y="1448280"/>
            <a:ext cx="457200" cy="182844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828440"/>
              <a:gd name="textAreaBottom" fmla="*/ 1828800 h 18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261" stAng="10800000" swAng="5400000"/>
                <a:lnTo>
                  <a:pt x="14177" y="1899"/>
                </a:lnTo>
                <a:lnTo>
                  <a:pt x="14177" y="0"/>
                </a:lnTo>
                <a:lnTo>
                  <a:pt x="21600" y="6079"/>
                </a:lnTo>
                <a:lnTo>
                  <a:pt x="14177" y="12158"/>
                </a:lnTo>
                <a:lnTo>
                  <a:pt x="14177" y="10259"/>
                </a:lnTo>
                <a:lnTo>
                  <a:pt x="12427" y="10259"/>
                </a:lnTo>
                <a:arcTo wR="4067" hR="1901" stAng="16200000" swAng="-5400000"/>
                <a:lnTo>
                  <a:pt x="836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368800">
            <a:off x="3345840" y="1676520"/>
            <a:ext cx="914400" cy="1828800"/>
          </a:xfrm>
          <a:custGeom>
            <a:avLst/>
            <a:gdLst>
              <a:gd name="textAreaLeft" fmla="*/ 360 w 914400"/>
              <a:gd name="textAreaRight" fmla="*/ 915120 w 914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38" stAng="10800000" swAng="5400000"/>
                <a:lnTo>
                  <a:pt x="13735" y="3122"/>
                </a:lnTo>
                <a:lnTo>
                  <a:pt x="13735" y="0"/>
                </a:lnTo>
                <a:lnTo>
                  <a:pt x="21600" y="6079"/>
                </a:lnTo>
                <a:lnTo>
                  <a:pt x="13735" y="12158"/>
                </a:lnTo>
                <a:lnTo>
                  <a:pt x="13735" y="9036"/>
                </a:lnTo>
                <a:lnTo>
                  <a:pt x="12427" y="9036"/>
                </a:lnTo>
                <a:arcTo wR="6513" hR="3124" stAng="16200000" swAng="-5400000"/>
                <a:lnTo>
                  <a:pt x="5914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10768800">
            <a:off x="5028120" y="2133000"/>
            <a:ext cx="1143000" cy="160308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603080"/>
              <a:gd name="textAreaBottom" fmla="*/ 1603440 h 160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5368800">
            <a:off x="3041640" y="1980720"/>
            <a:ext cx="1523880" cy="182880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17" stAng="10800000" swAng="5400000"/>
                <a:lnTo>
                  <a:pt x="13524" y="3743"/>
                </a:lnTo>
                <a:lnTo>
                  <a:pt x="13524" y="0"/>
                </a:lnTo>
                <a:lnTo>
                  <a:pt x="21600" y="6079"/>
                </a:lnTo>
                <a:lnTo>
                  <a:pt x="13524" y="12158"/>
                </a:lnTo>
                <a:lnTo>
                  <a:pt x="13524" y="8415"/>
                </a:lnTo>
                <a:lnTo>
                  <a:pt x="12427" y="8415"/>
                </a:lnTo>
                <a:arcTo wR="7755" hR="3745" stAng="16200000" swAng="-5400000"/>
                <a:lnTo>
                  <a:pt x="4672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к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09680"/>
            <a:ext cx="22860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5368800">
            <a:off x="2742840" y="2286000"/>
            <a:ext cx="2133360" cy="182880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21" stAng="10800000" swAng="5400000"/>
                <a:lnTo>
                  <a:pt x="14610" y="3939"/>
                </a:lnTo>
                <a:lnTo>
                  <a:pt x="14610" y="0"/>
                </a:lnTo>
                <a:lnTo>
                  <a:pt x="21600" y="6079"/>
                </a:lnTo>
                <a:lnTo>
                  <a:pt x="14610" y="12158"/>
                </a:lnTo>
                <a:lnTo>
                  <a:pt x="14610" y="8219"/>
                </a:lnTo>
                <a:lnTo>
                  <a:pt x="12427" y="8219"/>
                </a:lnTo>
                <a:arcTo wR="8147" hR="3941" stAng="16200000" swAng="-5400000"/>
                <a:lnTo>
                  <a:pt x="428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к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144792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480060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26708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733920"/>
            <a:ext cx="2743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80360" y="838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;PWXL;N;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0680" y="14479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;X1:Y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9600" y="19810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K”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ка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65800" y="251460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Y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K”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ка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0320" y="3048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X4:K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0680" y="368316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;X1: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600" y="42670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K”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ка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600" y="4749840"/>
            <a:ext cx="26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K”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ка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10768800">
            <a:off x="5024880" y="2131560"/>
            <a:ext cx="1146240" cy="914400"/>
          </a:xfrm>
          <a:custGeom>
            <a:avLst/>
            <a:gdLst>
              <a:gd name="textAreaLeft" fmla="*/ 360 w 1146240"/>
              <a:gd name="textAreaRight" fmla="*/ 1146960 w 1146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rot="10768800">
            <a:off x="5027400" y="2126520"/>
            <a:ext cx="1141200" cy="38412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5368800">
            <a:off x="3583440" y="1448280"/>
            <a:ext cx="457200" cy="182844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828440"/>
              <a:gd name="textAreaBottom" fmla="*/ 1828800 h 18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261" stAng="10800000" swAng="5400000"/>
                <a:lnTo>
                  <a:pt x="14177" y="1899"/>
                </a:lnTo>
                <a:lnTo>
                  <a:pt x="14177" y="0"/>
                </a:lnTo>
                <a:lnTo>
                  <a:pt x="21600" y="6079"/>
                </a:lnTo>
                <a:lnTo>
                  <a:pt x="14177" y="12158"/>
                </a:lnTo>
                <a:lnTo>
                  <a:pt x="14177" y="10259"/>
                </a:lnTo>
                <a:lnTo>
                  <a:pt x="12427" y="10259"/>
                </a:lnTo>
                <a:arcTo wR="4067" hR="1901" stAng="16200000" swAng="-5400000"/>
                <a:lnTo>
                  <a:pt x="836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rot="5368800">
            <a:off x="3351960" y="1676520"/>
            <a:ext cx="914400" cy="1828800"/>
          </a:xfrm>
          <a:custGeom>
            <a:avLst/>
            <a:gdLst>
              <a:gd name="textAreaLeft" fmla="*/ 360 w 914400"/>
              <a:gd name="textAreaRight" fmla="*/ 915120 w 914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38" stAng="10800000" swAng="5400000"/>
                <a:lnTo>
                  <a:pt x="13735" y="3122"/>
                </a:lnTo>
                <a:lnTo>
                  <a:pt x="13735" y="0"/>
                </a:lnTo>
                <a:lnTo>
                  <a:pt x="21600" y="6079"/>
                </a:lnTo>
                <a:lnTo>
                  <a:pt x="13735" y="12158"/>
                </a:lnTo>
                <a:lnTo>
                  <a:pt x="13735" y="9036"/>
                </a:lnTo>
                <a:lnTo>
                  <a:pt x="12427" y="9036"/>
                </a:lnTo>
                <a:arcTo wR="6513" hR="3124" stAng="16200000" swAng="-5400000"/>
                <a:lnTo>
                  <a:pt x="5914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rot="5368800">
            <a:off x="3047760" y="1980720"/>
            <a:ext cx="1523880" cy="182880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17" stAng="10800000" swAng="5400000"/>
                <a:lnTo>
                  <a:pt x="13524" y="3743"/>
                </a:lnTo>
                <a:lnTo>
                  <a:pt x="13524" y="0"/>
                </a:lnTo>
                <a:lnTo>
                  <a:pt x="21600" y="6079"/>
                </a:lnTo>
                <a:lnTo>
                  <a:pt x="13524" y="12158"/>
                </a:lnTo>
                <a:lnTo>
                  <a:pt x="13524" y="8415"/>
                </a:lnTo>
                <a:lnTo>
                  <a:pt x="12427" y="8415"/>
                </a:lnTo>
                <a:arcTo wR="7755" hR="3745" stAng="16200000" swAng="-5400000"/>
                <a:lnTo>
                  <a:pt x="4672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368800">
            <a:off x="2749320" y="2286000"/>
            <a:ext cx="2133360" cy="182880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21" stAng="10800000" swAng="5400000"/>
                <a:lnTo>
                  <a:pt x="14610" y="3939"/>
                </a:lnTo>
                <a:lnTo>
                  <a:pt x="14610" y="0"/>
                </a:lnTo>
                <a:lnTo>
                  <a:pt x="21600" y="6079"/>
                </a:lnTo>
                <a:lnTo>
                  <a:pt x="14610" y="12158"/>
                </a:lnTo>
                <a:lnTo>
                  <a:pt x="14610" y="8219"/>
                </a:lnTo>
                <a:lnTo>
                  <a:pt x="12427" y="8219"/>
                </a:lnTo>
                <a:arcTo wR="8147" hR="3941" stAng="16200000" swAng="-5400000"/>
                <a:lnTo>
                  <a:pt x="428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2057400"/>
            <a:ext cx="485640" cy="2819520"/>
          </a:xfrm>
          <a:prstGeom prst="downArrow">
            <a:avLst>
              <a:gd name="adj1" fmla="val 50000"/>
              <a:gd name="adj2" fmla="val 145145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к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к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2209680"/>
            <a:ext cx="486000" cy="2729160"/>
          </a:xfrm>
          <a:prstGeom prst="upArrow">
            <a:avLst>
              <a:gd name="adj1" fmla="val 50000"/>
              <a:gd name="adj2" fmla="val 140389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rot="10768800">
            <a:off x="5042520" y="2130120"/>
            <a:ext cx="1052280" cy="4726080"/>
          </a:xfrm>
          <a:custGeom>
            <a:avLst/>
            <a:gdLst>
              <a:gd name="textAreaLeft" fmla="*/ -360 w 1052280"/>
              <a:gd name="textAreaRight" fmla="*/ 1052280 w 1052280"/>
              <a:gd name="textAreaTop" fmla="*/ 0 h 4726080"/>
              <a:gd name="textAreaBottom" fmla="*/ 4726440 h 4726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rot="10768800">
            <a:off x="5039640" y="2131560"/>
            <a:ext cx="1055520" cy="4038480"/>
          </a:xfrm>
          <a:custGeom>
            <a:avLst/>
            <a:gdLst>
              <a:gd name="textAreaLeft" fmla="*/ 360 w 1055520"/>
              <a:gd name="textAreaRight" fmla="*/ 1056240 w 105552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rot="10768800">
            <a:off x="5036400" y="2131920"/>
            <a:ext cx="1058760" cy="3352680"/>
          </a:xfrm>
          <a:custGeom>
            <a:avLst/>
            <a:gdLst>
              <a:gd name="textAreaLeft" fmla="*/ -360 w 1058760"/>
              <a:gd name="textAreaRight" fmla="*/ 1058760 w 105876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0768800">
            <a:off x="5031720" y="2131200"/>
            <a:ext cx="1143000" cy="251460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39" stAng="10800000" swAng="5400000"/>
                <a:lnTo>
                  <a:pt x="14780" y="3221"/>
                </a:lnTo>
                <a:lnTo>
                  <a:pt x="14780" y="0"/>
                </a:lnTo>
                <a:lnTo>
                  <a:pt x="21600" y="6079"/>
                </a:lnTo>
                <a:lnTo>
                  <a:pt x="14780" y="12158"/>
                </a:lnTo>
                <a:lnTo>
                  <a:pt x="14780" y="8937"/>
                </a:lnTo>
                <a:lnTo>
                  <a:pt x="12427" y="8937"/>
                </a:lnTo>
                <a:arcTo wR="6711" hR="3223" stAng="16200000" swAng="-5400000"/>
                <a:lnTo>
                  <a:pt x="5716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50320" y="5334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X4:K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936-C208-48C0-AA00-F94FE1779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ример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LS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99072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KREP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68580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7621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5257800"/>
            <a:ext cx="19810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4952880"/>
            <a:ext cx="19810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0292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6668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9718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9718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743200"/>
            <a:ext cx="2743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4320" y="36576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1143000"/>
            <a:ext cx="3200400" cy="48006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4800600"/>
              <a:gd name="textAreaBottom" fmla="*/ 4644360 h 48006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6002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16002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371600"/>
            <a:ext cx="2743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3960" y="228600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648320"/>
            <a:ext cx="99036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4419720"/>
            <a:ext cx="2743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9920" y="53341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1600200"/>
            <a:ext cx="1052280" cy="485640"/>
          </a:xfrm>
          <a:prstGeom prst="rightArrow">
            <a:avLst>
              <a:gd name="adj1" fmla="val 50000"/>
              <a:gd name="adj2" fmla="val 5417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523880"/>
            <a:ext cx="838440" cy="486000"/>
          </a:xfrm>
          <a:prstGeom prst="rightArrow">
            <a:avLst>
              <a:gd name="adj1" fmla="val 50000"/>
              <a:gd name="adj2" fmla="val 4313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1600200"/>
            <a:ext cx="99036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16002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371600"/>
            <a:ext cx="2743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1600" y="228600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133720"/>
            <a:ext cx="485640" cy="2819160"/>
          </a:xfrm>
          <a:prstGeom prst="downArrow">
            <a:avLst>
              <a:gd name="adj1" fmla="val 50000"/>
              <a:gd name="adj2" fmla="val 14512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133720"/>
            <a:ext cx="486000" cy="2819160"/>
          </a:xfrm>
          <a:prstGeom prst="upArrow">
            <a:avLst>
              <a:gd name="adj1" fmla="val 50000"/>
              <a:gd name="adj2" fmla="val 145019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,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228600"/>
            <a:ext cx="1219320" cy="137160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,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1600200"/>
            <a:ext cx="99036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1600200"/>
            <a:ext cx="990720" cy="457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581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3DA-F854-4EB8-8A61-A8E3B5F6C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кции отчетов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ROU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UBGROUP HR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SUBGROU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SUBGROUP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UBGROUP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ROUP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B86-2D05-44C7-9E0E-05E295076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Динамические секции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яете в бланке секц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_NAM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_NAM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грамме на событ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ectionPrepar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ите секцию к выво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Section(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водите секцию в любом мес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ection(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38080"/>
            <a:ext cx="1981080" cy="83844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81A-AB66-401E-91E8-F5681975B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Запросы данных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номерам. Внутри секции номера должны быть уникаль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и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контексту. (По тексту внутри ячейк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координатам ячеек внутри входного бла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007-B9A5-4D97-947F-434ACDA64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Методы запросов данных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ыт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обратного вызова, которая регистрируется при инициализац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компонен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зотическ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BMS_SQL, Clipper – Code Blo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0C8-29CD-4A46-9B41-1672678364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дактирование бланков отчетов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нки отчетов редактируются в родных редакторах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Word, FrontPage, Exce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ной бланк полностью определяет конечный вид отч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та требуется дальнейшая дорабо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F5C-CC12-494D-B8D8-F3E77ECA4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дактирование бланка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inWord RTF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ло бланка начин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BEGIN Q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анчива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END Q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обычных се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BEGIN SECTION_NAME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PORT_HEADER, BODY …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@0001, ~Label1~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END SECTION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динамических се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BEGIN SECTION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‘SECTION_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… …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@0001, ~Label1~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#END SECTION ‘SECTION_NAM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секции любое доступное форматиро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метки запросов как по номерам, так и по имен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A17-8D70-4F6D-8E80-9C3C35B8B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 редакторе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inWord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732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732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32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7320" y="474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BlankRtf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864560" cy="53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7F8-BBB8-4709-9DF9-79F32B35E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837720"/>
            <a:ext cx="441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т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й построения отч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дактирование бла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компонент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ph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+ Bu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KRep.D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кет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в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s and Tr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167-4D2E-4B93-9195-CD8867426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нутри формата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TF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{\b\f11 #BEGIN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@0001, @000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яМетки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{\b\f11 #END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329-1E00-488D-9F22-0A46BA5AB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Неправильное определение секций и меток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TF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\b\f31 #B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\cf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IN BOD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\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@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{\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001, @000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\b\f31 #E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\f1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385-4CB3-479B-8E26-50315DC33B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дактирование бланка отчета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752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75248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ло отчета начинается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{ #BEGIN QREPORT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должно стоять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эг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анчивается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{ #END QREPORT }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#END QREPORT }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лжно стоять пере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эг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кции размечаютс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{ #BEGIN SECTION_NAME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@0001, ~Name1~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{ #END SECTION_NAME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динамических се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{ #BEGIN SECTION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‘NAME’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@0001, ~Name1~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{ #END SECTION ‘NAME’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секции любое форматирование, доступ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метки запросов данных как по номерам так и по имен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 отчете большая таблица целесообразно делать таблицу на каждую сек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0A6-4D3A-4819-998B-C472D76147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396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 браузере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46" name="BlankHTML" descr=""/>
          <p:cNvPicPr/>
          <p:nvPr/>
        </p:nvPicPr>
        <p:blipFill>
          <a:blip r:embed="rId1"/>
          <a:stretch/>
        </p:blipFill>
        <p:spPr>
          <a:xfrm>
            <a:off x="446040" y="822240"/>
            <a:ext cx="8251920" cy="52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D03-8897-48A6-A294-FCE11CE6B0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нутри формата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1828800" y="1600200"/>
            <a:ext cx="12607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 #BEGIN GROUP HEADER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TD COLSPAN = 5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P ALIGN="CENTER"&gt;State @0001&lt;/TD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TD WIDTH="20%" &lt;/TD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 #END GROUP HEADER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BD6-9DD5-4E30-B690-CBFBE72FF2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дактирование бланка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 SYLK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яете секции при помощи Defin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нутри секции любое форматирование, допустимое SYLK форматом (не очень оно богато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нутри секции определение меток запросов данных по номерам (@0001), по именам (~Name1~) и по содержимому ячеек (7.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B99-531C-4FAB-B448-200AA3C06E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YLK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ланк в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52" name="BlankSYLK" descr=""/>
          <p:cNvPicPr/>
          <p:nvPr/>
        </p:nvPicPr>
        <p:blipFill>
          <a:blip r:embed="rId1"/>
          <a:stretch/>
        </p:blipFill>
        <p:spPr>
          <a:xfrm>
            <a:off x="228600" y="1303200"/>
            <a:ext cx="8686800" cy="42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136-48A5-480A-9CEC-E200BB8E7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пределение секций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YLK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54" name="DefSecSYLK" descr=""/>
          <p:cNvPicPr/>
          <p:nvPr/>
        </p:nvPicPr>
        <p:blipFill>
          <a:blip r:embed="rId1"/>
          <a:stretch/>
        </p:blipFill>
        <p:spPr>
          <a:xfrm>
            <a:off x="114480" y="919080"/>
            <a:ext cx="891540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D29-1AA8-4115-AF0D-B550E15BE8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дактирование бланка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 XLS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56" name="BlankXLS" descr=""/>
          <p:cNvPicPr/>
          <p:nvPr/>
        </p:nvPicPr>
        <p:blipFill>
          <a:blip r:embed="rId1"/>
          <a:stretch/>
        </p:blipFill>
        <p:spPr>
          <a:xfrm>
            <a:off x="303120" y="1257480"/>
            <a:ext cx="8537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E56-BAF6-4D98-BAC2-98255A06BB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пособ перемещения по данным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840" y="1447920"/>
            <a:ext cx="48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ROUP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UBGROUP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SUBGROUP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SUBGROUP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UBGROUP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GROUP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1828800"/>
            <a:ext cx="4572000" cy="485640"/>
          </a:xfrm>
          <a:prstGeom prst="rightArrow">
            <a:avLst>
              <a:gd name="adj1" fmla="val 50000"/>
              <a:gd name="adj2" fmla="val 235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MOVE_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3505320"/>
            <a:ext cx="20574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3124080"/>
            <a:ext cx="20574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34520" y="320040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3276720" cy="485640"/>
          </a:xfrm>
          <a:prstGeom prst="leftArrow">
            <a:avLst>
              <a:gd name="adj1" fmla="val 50000"/>
              <a:gd name="adj2" fmla="val 168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/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209680"/>
            <a:ext cx="40384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590920"/>
            <a:ext cx="40384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2971800"/>
            <a:ext cx="40384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352680"/>
            <a:ext cx="40384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733920"/>
            <a:ext cx="403848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038480"/>
            <a:ext cx="40384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4419720"/>
            <a:ext cx="40384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4800600"/>
            <a:ext cx="4038480" cy="380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5181480"/>
            <a:ext cx="40384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5486400"/>
            <a:ext cx="4572000" cy="485640"/>
          </a:xfrm>
          <a:prstGeom prst="rightArrow">
            <a:avLst>
              <a:gd name="adj1" fmla="val 50000"/>
              <a:gd name="adj2" fmla="val 235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MOVE_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800600"/>
            <a:ext cx="3276720" cy="485640"/>
          </a:xfrm>
          <a:prstGeom prst="leftArrow">
            <a:avLst>
              <a:gd name="adj1" fmla="val 50000"/>
              <a:gd name="adj2" fmla="val 1686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/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447920"/>
            <a:ext cx="914400" cy="3733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57" stAng="10800000" swAng="5400000"/>
                <a:lnTo>
                  <a:pt x="14695" y="4603"/>
                </a:lnTo>
                <a:lnTo>
                  <a:pt x="14695" y="0"/>
                </a:lnTo>
                <a:lnTo>
                  <a:pt x="21600" y="6079"/>
                </a:lnTo>
                <a:lnTo>
                  <a:pt x="14695" y="12158"/>
                </a:lnTo>
                <a:lnTo>
                  <a:pt x="14695" y="7555"/>
                </a:lnTo>
                <a:lnTo>
                  <a:pt x="12427" y="7555"/>
                </a:lnTo>
                <a:arcTo wR="9475" hR="4605" stAng="16200000" swAng="-5400000"/>
                <a:lnTo>
                  <a:pt x="2952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DBF-0C32-4001-B3AA-72F53221EF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орматы данных, используемые генератором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текст (*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Word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е толь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F (*.rt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(*.html, *ht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 SYLK (*.sl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 XLS (*.x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FC6-EC12-4D24-B99A-37DCFDEDE7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опирование одной секции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1371600"/>
            <a:ext cx="4572000" cy="485640"/>
          </a:xfrm>
          <a:prstGeom prst="rightArrow">
            <a:avLst>
              <a:gd name="adj1" fmla="val 50000"/>
              <a:gd name="adj2" fmla="val 235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SECTION_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09880"/>
            <a:ext cx="20574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3429000"/>
            <a:ext cx="20574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3505320"/>
            <a:ext cx="22860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2666880"/>
            <a:ext cx="3276720" cy="486000"/>
          </a:xfrm>
          <a:prstGeom prst="leftArrow">
            <a:avLst>
              <a:gd name="adj1" fmla="val 50000"/>
              <a:gd name="adj2" fmla="val 168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/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5029200"/>
            <a:ext cx="4572000" cy="485640"/>
          </a:xfrm>
          <a:prstGeom prst="rightArrow">
            <a:avLst>
              <a:gd name="adj1" fmla="val 50000"/>
              <a:gd name="adj2" fmla="val 235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SECTION_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1981080"/>
            <a:ext cx="4572000" cy="486000"/>
          </a:xfrm>
          <a:prstGeom prst="rightArrow">
            <a:avLst>
              <a:gd name="adj1" fmla="val 50000"/>
              <a:gd name="adj2" fmla="val 2351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SECTION_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3200400"/>
            <a:ext cx="3505320" cy="485640"/>
          </a:xfrm>
          <a:prstGeom prst="rightArrow">
            <a:avLst>
              <a:gd name="adj1" fmla="val 50000"/>
              <a:gd name="adj2" fmla="val 1804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DATA_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3886200"/>
            <a:ext cx="3276360" cy="485640"/>
          </a:xfrm>
          <a:prstGeom prst="leftArrow">
            <a:avLst>
              <a:gd name="adj1" fmla="val 50000"/>
              <a:gd name="adj2" fmla="val 1686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0440" y="1676520"/>
            <a:ext cx="315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\f31 #BEGI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0001, @0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b\f31 #EN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\pa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5943600"/>
            <a:ext cx="4572000" cy="485640"/>
          </a:xfrm>
          <a:prstGeom prst="rightArrow">
            <a:avLst>
              <a:gd name="adj1" fmla="val 50000"/>
              <a:gd name="adj2" fmla="val 235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_SECTION_COM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5715000"/>
            <a:ext cx="1981440" cy="83808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0DA-5EC4-4D83-99DC-6C45980B47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Реализации генератора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ненты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phi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ненты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+Build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KRep.D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ор экспортируемых фун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оценный сервер автома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кет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вера (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динозавров и особо свернутых набор функций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 CA-Cli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1828800"/>
            <a:ext cx="1981080" cy="83808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2438280"/>
            <a:ext cx="1981080" cy="83844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4267080"/>
            <a:ext cx="1981440" cy="83844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5257800"/>
            <a:ext cx="1981080" cy="83808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647-28BE-407F-9E47-750003A0A6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Набор компонент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 для построения отче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martWord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 для построения отчетов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Word RTF, HT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екстовый форм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rd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martWordStre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со стандартным интерфейсом от базового клас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ylkStream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с интерфейсом от базов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celCOMRepo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генератор отче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celDDE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тор отче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 DD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Contai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ейнер для любых наследников о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TSylkStream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98" name="TSmartWordStream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99" name="TWordReport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00" name="TSylkReport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01" name="TExcelCOMReport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02" name="TExcelDDEReport" descr=""/>
          <p:cNvPicPr/>
          <p:nvPr/>
        </p:nvPicPr>
        <p:blipFill>
          <a:blip r:embed="rId6"/>
          <a:stretch/>
        </p:blipFill>
        <p:spPr>
          <a:xfrm>
            <a:off x="533520" y="47242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03" name="TReportContainer" descr=""/>
          <p:cNvPicPr/>
          <p:nvPr/>
        </p:nvPicPr>
        <p:blipFill>
          <a:blip r:embed="rId7"/>
          <a:stretch/>
        </p:blipFill>
        <p:spPr>
          <a:xfrm>
            <a:off x="533520" y="548640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238880" y="4038480"/>
            <a:ext cx="1676520" cy="68580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40B-B91C-4967-A3B3-0CA0769987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CL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хема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371600"/>
            <a:ext cx="243864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352680"/>
            <a:ext cx="2438640" cy="38124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038480"/>
            <a:ext cx="2438280" cy="38124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rd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4648320"/>
            <a:ext cx="24382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5257800"/>
            <a:ext cx="29718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celCOM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0400" y="5867280"/>
            <a:ext cx="2971800" cy="38124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celDDE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24382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2362320"/>
            <a:ext cx="327672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martWord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3352680"/>
            <a:ext cx="2819520" cy="381240"/>
          </a:xfrm>
          <a:prstGeom prst="rect">
            <a:avLst/>
          </a:prstGeom>
          <a:solidFill>
            <a:srgbClr val="3333cc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3581280"/>
            <a:ext cx="2438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523880"/>
            <a:ext cx="1447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523880"/>
            <a:ext cx="0" cy="1524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590920"/>
            <a:ext cx="990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2057400"/>
            <a:ext cx="990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1752480"/>
            <a:ext cx="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3733920"/>
            <a:ext cx="0" cy="2361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4191120"/>
            <a:ext cx="1371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4800600"/>
            <a:ext cx="1371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410080"/>
            <a:ext cx="1371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6095880"/>
            <a:ext cx="1371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3048120"/>
            <a:ext cx="22100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30481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B12-E07E-440F-91EB-864106A0AF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азовый класс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AbstractReport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Методы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portResum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portExecut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portHorizontalyResum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portHorizontalyExecut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BiDirectionResum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BiDirectionExecute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epareSection(const SectionName: ShortString): Integer; virtual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epareHorizontalySection(const SectionName: ShortString): Integer; abstra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338-43F1-49DF-9314-12EEA8E37E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ocedure OutSection(SectionName: ShortString); virtual; abstra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ocedure OutHorizontalySection(SectionName: ShortString); virtual; abstra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ocedure OutSectionByNum(SectionNum: Integer); virtual; abstra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ocedure OutHorizontalySectionByNum(SectionNum: Integer); virtual; abstra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5F9-425D-49E9-969A-760A8F00F8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азовый класс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AbstractReport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войства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CurrentSection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CurrentSectionNum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TypeDiraction: TTtypeDir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InputBlank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InputSheet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OutputBlank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OutputSheet: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CharByNum: Char; {#000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CharByName: Char; {~name~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InputStream: Tstrea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OutputStream: Tstrea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6F3-2CF0-4325-B3B0-7DF4128C18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азовый класс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AbstractReport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обытия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tartRepo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EndRepo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ReportErr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MoveT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Move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ectionBeg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ection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ectionCompl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ectionChe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DataRequ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RequestBy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RequestBy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OnSectionPrepa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980-C0C9-4C35-B99C-59D5DD062A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онтейнер отчетов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eportContainer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единственное свойст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y Report: TReportAbstrac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событий идентичны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2E5-08CF-4563-BC04-6729A08169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Набор компонент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++Builder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 для построения отче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martWord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 для построения отчетов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Word RTF, HTM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екстовый форм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rd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martWordStre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со стандартным интерфейсом от базового клас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ylkRe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ylkStream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с интерфейсом от базовог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celCOMRepo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генератор отче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т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Contai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ейнер для любых наследников о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SylkStream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40" name="TSmartWordStream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41" name="TWordReport" descr=""/>
          <p:cNvPicPr/>
          <p:nvPr/>
        </p:nvPicPr>
        <p:blipFill>
          <a:blip r:embed="rId3"/>
          <a:stretch/>
        </p:blipFill>
        <p:spPr>
          <a:xfrm>
            <a:off x="533520" y="23623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42" name="TSylkReport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43" name="TExcelCOMReport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344" name="TReportContainer" descr=""/>
          <p:cNvPicPr/>
          <p:nvPr/>
        </p:nvPicPr>
        <p:blipFill>
          <a:blip r:embed="rId6"/>
          <a:stretch/>
        </p:blipFill>
        <p:spPr>
          <a:xfrm>
            <a:off x="533520" y="525780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229600" y="0"/>
            <a:ext cx="914400" cy="53352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9F4-B1DF-4692-B979-729EFF9262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 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META NAME="Generator" CONTENT="Microsoft Word 97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H1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TABLE BORDER=1 CELLPADDING=7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TD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чейка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TD&gt;&lt;TD&gt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чейка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65C-1018-4FAC-9234-EF5E97608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иблиотека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KRep.dll –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экспортируемые функции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reateReportObject( TTtypeReport, HWND, TCallBackFunc, void*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De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opReportObject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Resum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Execut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HorizontalyResum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HorizontalyExecut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DirectionResum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DirectionExecute(int idObj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PrepareSection(int, char*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PrepareHorizontalySection(int, char*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ectionByName(int, char* Section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HorizontalySectionByName(int, char*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ectionByNum(int idObj, int Section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HorizontalySectionByNum(int, 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9600" y="0"/>
            <a:ext cx="914400" cy="53352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F7C-ED0D-4714-8CA7-A550D3DC76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T/GET Property 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*} Set/GetInputBlank(int idObj, {char*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*} Set/GetInputSheet(int idObj, {char*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*} Set/GetOutputBlank(int idObj, {char*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*} Set/GetOutputSheet(int idObj, {char*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} Set/GetCharByNum(int idObj, {char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} Set/GetCharByName(int idObj, {char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har*} Set/GetCurrentSection(int idObj, {char*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GetCurrentSectionNum(int idOb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typeDiraction GetTypeDiraction(int idObj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WriteStream} Set/GetWriteStream(int, {TWriteStream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WriteStream} Set/GetReadStream(int, {TWriteStream}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45F-71C0-459C-A357-FCC28EAC93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Библиотека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KRep.dll –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сервер автоматизации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реализует сервер автоматизации 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ом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K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методов и свойст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KRepor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остью идентичен класс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portAbs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29600" y="0"/>
            <a:ext cx="914400" cy="53352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98D-01B6-4104-8436-B141DAB038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акет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RACLE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вера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кет VKREP в VKRep.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PrepareSection(SectionName IN VARCHAR2) RETUR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OutSection(SectionName IN VARCHA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OutSection(SectionNum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ReportExecute(pCallBackProcName IN VARCHAR2, pInputBlank IN CLOB, pOutputReport IN OUT CLO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29600" y="0"/>
            <a:ext cx="914400" cy="53352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FCF-A371-4479-9232-AE3C17402E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KRep.SQ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ется DBMS_SQL для вызова “CallBack” 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за этого недостаток – эта процедура не допускает повторного вхождения, поэтому не работает функция OutS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– не работают динамические се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7B3-7993-41A9-A24F-F303FB4B00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KRep.SQL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остроения отчета на сервере необходимо организовать пакет 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CallBack”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963-7DBC-481B-8F76-9346FAC8735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Для гурманов – реализация на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A-Clipper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ивительно – но это действительно работ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7C2-10C4-460B-B3D0-70170B8FF1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ips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icks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едствии того, что генератор наполняет отчеты данными лишь делая запросы по меткам, появляется возможность подпихнуть под эти запросы вместе с собственно данными нечто особен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этом принципе основаны некоторые полезные фоку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AF9-1FC7-4735-A372-44614D1189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ыделение данных в зависимости от содержимого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/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/c8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&gt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NT COLOR="#008080"&gt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/FO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L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 событие запроса по ячейке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; SLRTBM&lt;n&gt;;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ое число, определяемое эксперимент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ep.ReportSheet.Cells.Item[OutR, OutC].Font.Color := clR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ep.ReportSheet.Cells.Item[OutR, OutC].Font.Bold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39E-64C0-4140-AFD4-8B4C324809A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ртинки в отчетах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field{\*\fldinst {\f53\lang1033  INCLUDEPICTURE "]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мя файла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M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инк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[" \\* MERGEFORMAT \\d }}{\fldrslt {\f53\lang1024 }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MG SRC=“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1.gi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LK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оддерживает граф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н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2EF-CE39-4830-80BF-4A279A4158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inWord RTF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rtf1\ansi\def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fontt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f3\fnil Courie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f1\fnil Times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colortb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red255\green0\blue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red0\green255\blue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red0\green0\blue255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f1\qc {\b {\cf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{\cf2 RTF} {\cf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форм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f3\q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\fs48\b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pa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5AB-9D82-4078-B466-51B174E6E1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уппировки для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 XLS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ормата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:= n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:= ExcelDDEReport1.ReportSheet.Range[Format('A%d', [bR]), Format('A%d', [eR])] as Rang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.Rows.Group(NULL, NULL, NULL, NUL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 := n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565-D8E4-4BD7-A091-7434233CEF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тоговые суммы в заголовках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воде заголовка отчета (группы) запоминаем адрес ячейки, куда надо поместить сум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воде футера отчета (группы) помещаем туда посчитанную сум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S.ReportSheet.Cells.Item[OleVariant(tTot.R1), OleVariant(tTot.C1)] := Format('%5.1f', [tTot.S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 всего сделать при помощи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10-F12E-4287-812C-9C736C92AB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Замечания по быстродействию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74" name="Speed" descr=""/>
          <p:cNvPicPr/>
          <p:nvPr/>
        </p:nvPicPr>
        <p:blipFill>
          <a:blip r:embed="rId1"/>
          <a:stretch/>
        </p:blipFill>
        <p:spPr>
          <a:xfrm>
            <a:off x="646200" y="1714680"/>
            <a:ext cx="78516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B82-858D-4D08-995E-C523AC0D05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онтакты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362320" y="2895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karpov@Luko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3C5-0342-4B3E-92FE-A74DABDACB2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 SYLK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;PWXL;N;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;Y1;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K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LK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Y2;K”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т мир!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;X4;K3456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FB3-1145-4059-9FAD-88B4C312F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xcel XLS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ый форм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 только через через техн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E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ревшая технолог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ен и прямой досту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е компоненты с прямым доступом появятся к следующей конфе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95480"/>
            <a:ext cx="1981080" cy="838440"/>
          </a:xfrm>
          <a:prstGeom prst="irregularSeal1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598-69D2-455E-9A31-4388B30B73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сновная идея построения отчетов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ирование текстовой информации из входного бланка в выходной фай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рос данных в процессе коп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этом подходе достиг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 независимость от форма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 независимость от источник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F67-0155-4CB2-ACAA-001A85EB2B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тчеты вертикальные, горизонтальные и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ross-tab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тчеты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81080"/>
            <a:ext cx="1828800" cy="304920"/>
          </a:xfrm>
          <a:prstGeom prst="rect">
            <a:avLst/>
          </a:prstGeom>
          <a:solidFill>
            <a:srgbClr val="33cccc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362320"/>
            <a:ext cx="18288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590920"/>
            <a:ext cx="18288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819520"/>
            <a:ext cx="18288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048120"/>
            <a:ext cx="18288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9810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1080"/>
            <a:ext cx="304920" cy="1143000"/>
          </a:xfrm>
          <a:prstGeom prst="rect">
            <a:avLst/>
          </a:prstGeom>
          <a:solidFill>
            <a:srgbClr val="33cccc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124080"/>
            <a:ext cx="1371600" cy="486000"/>
          </a:xfrm>
          <a:prstGeom prst="rightArrow">
            <a:avLst>
              <a:gd name="adj1" fmla="val 50000"/>
              <a:gd name="adj2" fmla="val 70556"/>
            </a:avLst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981080"/>
            <a:ext cx="15264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15264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981080"/>
            <a:ext cx="15264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981080"/>
            <a:ext cx="15264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1981080"/>
            <a:ext cx="15264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809880"/>
            <a:ext cx="1447920" cy="486000"/>
          </a:xfrm>
          <a:prstGeom prst="right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419720"/>
            <a:ext cx="3049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4419720"/>
            <a:ext cx="2286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4419720"/>
            <a:ext cx="2286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61800" y="4419720"/>
            <a:ext cx="2286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90400" y="4419720"/>
            <a:ext cx="22860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419720"/>
            <a:ext cx="486000" cy="1218960"/>
          </a:xfrm>
          <a:prstGeom prst="downArrow">
            <a:avLst>
              <a:gd name="adj1" fmla="val 50000"/>
              <a:gd name="adj2" fmla="val 62704"/>
            </a:avLst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4648320"/>
            <a:ext cx="144792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76920"/>
            <a:ext cx="144792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105520"/>
            <a:ext cx="144792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5334120"/>
            <a:ext cx="144792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562720"/>
            <a:ext cx="1447920" cy="152280"/>
          </a:xfrm>
          <a:prstGeom prst="rect">
            <a:avLst/>
          </a:prstGeom>
          <a:solidFill>
            <a:srgbClr val="cc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A3B-AEBA-4541-8C4B-72D7A0A28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0:26:43Z</dcterms:created>
  <dc:creator>Гуськов</dc:creator>
  <dc:description/>
  <dc:language>en-US</dc:language>
  <cp:lastModifiedBy>Vlad Karpov</cp:lastModifiedBy>
  <cp:lastPrinted>2000-09-27T08:54:36Z</cp:lastPrinted>
  <dcterms:modified xsi:type="dcterms:W3CDTF">2000-11-10T20:28:01Z</dcterms:modified>
  <cp:revision>96</cp:revision>
  <dc:subject/>
  <dc:title>Программная система «Контроль транспортировки нефти»</dc:title>
</cp:coreProperties>
</file>